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724-8288-49E9-BBB3-37EA87E6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556-D291-4B9F-8BF3-F554841B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47778-6255-44C9-B832-4302AD34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35F2F-CDA4-4467-B683-8A580D1A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434BF-E607-49E1-92F0-6EBF86E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E53F3-C50F-4DC1-8DA4-61BE56DC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FF5A1-3FD6-4896-9157-BB5B3F5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9F68C-64D5-492A-9A0E-D8859D5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93D55-EEA8-4B2A-B4C8-D927637C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6F482-A4F0-4FE8-8381-342EADA0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557BD-A689-425B-9906-77E0AB32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01844-B8CD-4E61-BBD3-D74EB4AE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48F-B282-4BC6-BBF6-6D6AD941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F1E84-E564-4AFA-ADE7-9CADDBD9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6813F-CC02-455A-B3C5-599891CC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351B4-B171-45AC-8C41-78E2C888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A1D31-AECC-4BD6-B972-A21F35D2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B8E84-88B5-494B-BFAC-DF88DA4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01D91-9A99-43E7-8856-0D00B91F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A1F70-A4B5-449F-93E5-63C2D344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54A0A-7316-4B24-BE57-7460843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D53AC-278F-40D9-A3B3-67EBBBBA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11A68-38E2-4B4E-86E0-F2CC4023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EC5-26E7-4666-9CE0-7DF1CD77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D9A2A-3091-4B28-8285-FBFCA3E3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60053-3FE0-4D20-8AF8-5C4B9495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DC9E9-3CCF-423D-853F-0DAD60B3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D554E-39FE-415D-B1E6-26236ED1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90DC8-5769-4AC5-90F7-5C1FA861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49BEE-21B4-469C-A3DB-973FC44F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DBF51-D902-437D-A088-9EA5ACC3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CAE4C-275C-44F5-829C-5548A1A0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D95B2-4243-4BB6-B635-7871C027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D3E0A-0B36-4E29-9973-14A31A8B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64E7-A49F-4476-AFFC-A497640E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F6094-7FA8-42EA-86F4-41428008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CF48E-C9BF-4973-A299-F164486E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5BC81-002E-46FD-81AF-24D2E6A0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7FE95-7A13-407D-B4BA-7C9E0D6B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B0234-4061-44E1-B44A-519A5EA6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5D8B8-AF47-4679-820D-C8F71C89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E0545-86BD-4D3A-8259-08172485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73462-CDAD-4F83-85D7-3F087E7B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1F228-657D-4DB0-A177-39D7E9E4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1DD0D-3535-4415-8DDB-8C60E256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CB4F-5C98-49CA-8598-046567F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94069-1197-4999-B6FA-A0C3D57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CEFED-0BB7-4940-8E72-19B3893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61C42-5402-4032-B8FA-625CEF4B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FCF73-3C23-4321-AD90-0F1A662D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4F32D-18DD-4409-844D-777FFD0A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E326-95A8-49E2-9306-D392D4F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4963-6087-42F2-8E4A-57F6C070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3CAB-D3A9-4007-BA40-AA6C762A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EA78-1F7B-4912-8F9A-7F9BF129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A41-E849-4D46-8207-338EF4A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C5D-D1E0-4799-81EA-90F069C9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F921-B3F8-42AF-AAB2-0FDFC5FD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7156-B8A9-40B0-AF0E-C92B4032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9FA9-5DA7-45B9-888D-536F60A2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73A9-77A4-4A4D-AE4A-AF86B98D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667C-AF33-4A6B-A5BC-C59808AC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A904-B16D-43D5-9277-69504479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6F46-AF2F-4751-8112-913B1839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A844-FF9F-4D99-B4AA-D29F8866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197D-D342-46A1-9BA7-0041C5A0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B50F-6EF1-4643-BECC-94FCD602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D68-13C1-4B4E-9E41-DEBBE87A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E0B1-3A31-4174-84C6-E6109C55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72F4-8AC0-40CC-A9E2-19550ED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8922-73ED-4386-B531-C64CA10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8330-A1D6-42A4-9114-234CAA05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975D-E7CB-464E-96E6-C4028D80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4DFA-4206-4B2A-8543-3EC572D3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049D-F977-46D2-AA9C-E638428C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274E-784D-4911-AD87-95DCE509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CE6F-D3A0-4FE1-A257-E0438A2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95EE-B018-45A3-95F4-877C165C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1BC-44DF-4257-8D7C-8D7E1927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1F92-9CC5-423C-A859-7BAA1C73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4CC64-BA91-44CB-8A81-04D2B0C3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FBB9-5970-423F-878D-04B86123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869C-A077-4099-812F-9CA5E2BE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C003B-3DF8-4B55-8421-0CDBA76D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C475-D782-46E9-9438-708DC16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4C86-AE50-4C12-88F8-93F603CE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A1DE-D516-433D-BB17-532A57B3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79D2-A737-469B-BADA-2456BA43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9431-4B89-4EF8-9AE1-628DE32F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83D-696B-429B-8225-D07A59BE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DD09-1E25-4F00-97D5-4990B6A5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62C94-615F-4119-A1C5-97A207B4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1C40-675E-4D1F-BCC7-F6D376CE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8AFD-5F34-4EB8-BE2F-DDC47116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70696-73AD-488D-8531-49296CA5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AE624-3D41-4C00-9A2C-1A636C9D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5479-19D5-4E85-BF77-5A039087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3CEC1-78AF-481E-B7BC-CD55BC41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ED2CB-E3F7-4260-B239-77DD56D3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C7985-B1ED-41E5-B15F-3DB31A3D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409-DA99-4845-9B9C-0BAE70E1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447C-D253-48DD-91AC-0FCD0F24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D4436-E2A8-474B-AD38-7C7D19D1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24AAB-A533-44AE-AD20-22C5DC28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9A9D6-E54B-47E5-8670-E3A4FC7E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588D2-64B9-4FB5-8C75-09F1DD4F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19DE0-3A27-4EE3-8FFF-C80DACBC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A3664-23CC-491E-969C-449BA161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0A77A-F69B-486A-BF12-158398E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3059-85C9-4E82-A36D-816B7090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3938-F9C6-4E1A-9807-01B687F8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56C-444F-44A7-9043-3D53A3ED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BE815-0F78-4215-B94F-56393906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407C3-7827-4EE7-AF99-1345993A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BA295-6E99-46E2-91AC-C8C2E2AB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75FAE-9F2A-4851-8105-2AD1A759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91B49-3BEA-473E-ABA6-080075F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A2825-AD8F-4832-8B06-DBB79054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3D678-BF91-4262-BC3A-4F2F444E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35516-81F8-4098-A4E1-69E3E4E9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42F1-635F-4B55-9CCE-197906E3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E9CE4-64D3-4A5F-8ED5-AF7B4D57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057-193C-4B6B-AB53-35A90D97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A52BC-66C8-4AD3-9055-429E670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354BA-D4B0-47D2-A48F-56D56002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EE17A-9A71-45C1-AD6D-6043B241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A723A-F5CA-4DC3-B68B-94288420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02C32-546F-41F3-B415-2999E0C2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6A52E-DA9F-48D6-8E4D-AF28C0E2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CF11A-E607-4992-8E48-2BE5AB22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2A84-64CC-4D75-8C4C-BA41B11E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19987-3218-47BD-88B0-B033E80F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5456F-86A8-4E9D-86A5-4157885F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32D-C7B5-4658-B3A2-40814AD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19040" y="10116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261D8-21CD-4F2E-8C38-32C94A5C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61660-9F99-4D18-A7E9-438AF3DC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1AA63-4E42-4FCE-AEBE-BB3E1B8E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006D-DDFC-4F34-B34F-E0C79C28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1D70B-5C95-49CC-B159-D1DF64B6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A9B08-EC54-49CE-8984-89B11F08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622B7-21E6-4079-B26E-6EFC6565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3F519-11F1-4EB8-8454-8BB0615C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F0FD5-5749-441A-A06F-DD302772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BA0BE-44AD-4DE5-AE68-6B77A256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8CF2-FC27-4F64-AED8-B88DF12400E7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8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421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22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23" name="图片 10" descr=""/>
          <p:cNvPicPr/>
          <p:nvPr/>
        </p:nvPicPr>
        <p:blipFill>
          <a:blip r:embed="rId4"/>
          <a:srcRect l="11161" t="16806" r="7900" b="0"/>
          <a:stretch/>
        </p:blipFill>
        <p:spPr>
          <a:xfrm>
            <a:off x="0" y="487440"/>
            <a:ext cx="9144000" cy="57322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52BD-2382-4B88-9648-7460247599FE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467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68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469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471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8D0F-89F4-4F6D-A01F-9D9FD7CD920F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515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16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517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519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A71-BFC2-4861-B1C4-26D7235202D7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47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601E-DCE9-458F-B932-60E3D8D10D5F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92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E2CB-4DF1-40AA-9BC7-FE398CF4C0E3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37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139" name="图片 10" descr=""/>
          <p:cNvPicPr/>
          <p:nvPr/>
        </p:nvPicPr>
        <p:blipFill>
          <a:blip r:embed="rId4"/>
          <a:srcRect l="11161" t="16806" r="7900" b="0"/>
          <a:stretch/>
        </p:blipFill>
        <p:spPr>
          <a:xfrm>
            <a:off x="0" y="487440"/>
            <a:ext cx="9144000" cy="573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C6A6-BECD-4004-BD70-B10F4F1B342E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83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185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87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5EAA-8BD3-4025-83D0-8A3CC93EB4BC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31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233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35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F29-6FE7-4071-8461-9987EC29E746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79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80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281" name="图片 10" descr=""/>
          <p:cNvPicPr/>
          <p:nvPr/>
        </p:nvPicPr>
        <p:blipFill>
          <a:blip r:embed="rId4"/>
          <a:srcRect l="11161" t="16806" r="7900" b="0"/>
          <a:stretch/>
        </p:blipFill>
        <p:spPr>
          <a:xfrm>
            <a:off x="0" y="487440"/>
            <a:ext cx="9144000" cy="57322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62C-7FC0-4B34-9F64-2FDCF629E0BA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325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26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327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329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ACB7-0C3C-4D80-9F02-DBF24B57ED99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8d8d"/>
            </a:gs>
            <a:gs pos="100000">
              <a:srgbClr val="f5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16" descr=""/>
          <p:cNvPicPr/>
          <p:nvPr/>
        </p:nvPicPr>
        <p:blipFill>
          <a:blip r:embed="rId2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7" descr=""/>
          <p:cNvPicPr/>
          <p:nvPr/>
        </p:nvPicPr>
        <p:blipFill>
          <a:blip r:embed="rId3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373" name="矩形 8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74" name="矩形 6"/>
          <p:cNvSpPr/>
          <p:nvPr/>
        </p:nvSpPr>
        <p:spPr>
          <a:xfrm>
            <a:off x="0" y="244440"/>
            <a:ext cx="192240" cy="539640"/>
          </a:xfrm>
          <a:prstGeom prst="rect">
            <a:avLst/>
          </a:prstGeom>
          <a:solidFill>
            <a:srgbClr val="8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375" name="图片 10" descr=""/>
          <p:cNvPicPr/>
          <p:nvPr/>
        </p:nvPicPr>
        <p:blipFill>
          <a:blip r:embed="rId4"/>
          <a:srcRect l="18074" t="77845" r="0" b="-1854"/>
          <a:stretch/>
        </p:blipFill>
        <p:spPr>
          <a:xfrm>
            <a:off x="-6480" y="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11" descr=""/>
          <p:cNvPicPr/>
          <p:nvPr/>
        </p:nvPicPr>
        <p:blipFill>
          <a:blip r:embed="rId5"/>
          <a:srcRect l="18074" t="39369" r="0" b="3742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377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9040" y="1011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800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d9354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742E-B12C-4EFC-B8A9-D4B50CD6F94D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 rot="21279600">
            <a:off x="1618560" y="2059920"/>
            <a:ext cx="5832360" cy="15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暖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互助“二次报销”</a:t>
            </a:r>
            <a:endParaRPr b="0" lang="en-US" sz="3600" spc="-1" strike="noStrike">
              <a:solidFill>
                <a:srgbClr val="8a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受益会员信息核实管理办法</a:t>
            </a:r>
            <a:endParaRPr b="0" lang="en-US" sz="3600" spc="-1" strike="noStrike">
              <a:solidFill>
                <a:srgbClr val="8a0000"/>
              </a:solidFill>
              <a:latin typeface="Arial"/>
            </a:endParaRPr>
          </a:p>
        </p:txBody>
      </p:sp>
      <p:sp>
        <p:nvSpPr>
          <p:cNvPr id="562" name="圆角矩形 8"/>
          <p:cNvSpPr/>
          <p:nvPr/>
        </p:nvSpPr>
        <p:spPr>
          <a:xfrm>
            <a:off x="4357800" y="6143760"/>
            <a:ext cx="45003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北京市职工互助保障服务中心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中国职工保险互助会北京办事处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1476360" y="3789360"/>
            <a:ext cx="1417680" cy="961920"/>
            <a:chOff x="1476360" y="3789360"/>
            <a:chExt cx="1417680" cy="961920"/>
          </a:xfrm>
        </p:grpSpPr>
        <p:sp>
          <p:nvSpPr>
            <p:cNvPr id="610" name="MH_Other_3"/>
            <p:cNvSpPr/>
            <p:nvPr/>
          </p:nvSpPr>
          <p:spPr>
            <a:xfrm>
              <a:off x="1476360" y="3789360"/>
              <a:ext cx="1417680" cy="961920"/>
            </a:xfrm>
            <a:prstGeom prst="line">
              <a:avLst/>
            </a:prstGeom>
            <a:ln cap="rnd" w="38160">
              <a:solidFill>
                <a:srgbClr val="bce2d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1476360" y="3789360"/>
              <a:ext cx="141768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1476360" y="2349000"/>
            <a:ext cx="1735200" cy="692280"/>
            <a:chOff x="1476360" y="2349000"/>
            <a:chExt cx="1735200" cy="692280"/>
          </a:xfrm>
        </p:grpSpPr>
        <p:sp>
          <p:nvSpPr>
            <p:cNvPr id="613" name="MH_Other_1"/>
            <p:cNvSpPr/>
            <p:nvPr/>
          </p:nvSpPr>
          <p:spPr>
            <a:xfrm flipV="1">
              <a:off x="1476360" y="2349000"/>
              <a:ext cx="1735200" cy="692280"/>
            </a:xfrm>
            <a:prstGeom prst="line">
              <a:avLst/>
            </a:prstGeom>
            <a:ln cap="rnd" w="38160">
              <a:solidFill>
                <a:srgbClr val="bce2d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 rot="10800000">
              <a:off x="1476360" y="2349000"/>
              <a:ext cx="1735200" cy="69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</p:grpSp>
      <p:sp>
        <p:nvSpPr>
          <p:cNvPr id="615" name="TextBox 6"/>
          <p:cNvSpPr/>
          <p:nvPr/>
        </p:nvSpPr>
        <p:spPr>
          <a:xfrm>
            <a:off x="250920" y="18900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34816"/>
                </a:solidFill>
                <a:latin typeface="微软雅黑"/>
                <a:ea typeface="微软雅黑"/>
              </a:rPr>
              <a:t>核实失败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34816"/>
                </a:solidFill>
                <a:latin typeface="微软雅黑"/>
                <a:ea typeface="微软雅黑"/>
              </a:rPr>
              <a:t>联系不到本人，无法完成核查工作。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187280" y="1699920"/>
            <a:ext cx="1735200" cy="1081080"/>
            <a:chOff x="1187280" y="1699920"/>
            <a:chExt cx="1735200" cy="1081080"/>
          </a:xfrm>
        </p:grpSpPr>
        <p:sp>
          <p:nvSpPr>
            <p:cNvPr id="617" name="MH_Other_1"/>
            <p:cNvSpPr/>
            <p:nvPr/>
          </p:nvSpPr>
          <p:spPr>
            <a:xfrm flipV="1">
              <a:off x="1187280" y="1699920"/>
              <a:ext cx="1735200" cy="1081080"/>
            </a:xfrm>
            <a:prstGeom prst="line">
              <a:avLst/>
            </a:prstGeom>
            <a:ln cap="rnd" w="38160">
              <a:solidFill>
                <a:srgbClr val="bce2d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 rot="10800000">
              <a:off x="1187280" y="1699920"/>
              <a:ext cx="1735200" cy="10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971280" y="3212640"/>
            <a:ext cx="2354400" cy="360"/>
            <a:chOff x="971280" y="3212640"/>
            <a:chExt cx="2354400" cy="360"/>
          </a:xfrm>
        </p:grpSpPr>
        <p:sp>
          <p:nvSpPr>
            <p:cNvPr id="620" name="MH_Other_2"/>
            <p:cNvSpPr/>
            <p:nvPr/>
          </p:nvSpPr>
          <p:spPr>
            <a:xfrm>
              <a:off x="971640" y="3213000"/>
              <a:ext cx="2354040" cy="0"/>
            </a:xfrm>
            <a:prstGeom prst="line">
              <a:avLst/>
            </a:prstGeom>
            <a:ln cap="rnd" w="38160">
              <a:solidFill>
                <a:srgbClr val="bce2d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 rot="10800000">
              <a:off x="971280" y="3212640"/>
              <a:ext cx="2354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619280" y="3429000"/>
            <a:ext cx="1857240" cy="708120"/>
            <a:chOff x="1619280" y="3429000"/>
            <a:chExt cx="1857240" cy="708120"/>
          </a:xfrm>
        </p:grpSpPr>
        <p:sp>
          <p:nvSpPr>
            <p:cNvPr id="623" name="MH_Other_3"/>
            <p:cNvSpPr/>
            <p:nvPr/>
          </p:nvSpPr>
          <p:spPr>
            <a:xfrm>
              <a:off x="1619280" y="3429000"/>
              <a:ext cx="1857240" cy="708120"/>
            </a:xfrm>
            <a:prstGeom prst="line">
              <a:avLst/>
            </a:prstGeom>
            <a:ln cap="rnd" w="38160">
              <a:solidFill>
                <a:srgbClr val="bce2d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1619280" y="3429000"/>
              <a:ext cx="1857240" cy="7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</p:grpSp>
      <p:sp>
        <p:nvSpPr>
          <p:cNvPr id="625" name="MH_SubTitle_1"/>
          <p:cNvSpPr/>
          <p:nvPr/>
        </p:nvSpPr>
        <p:spPr>
          <a:xfrm>
            <a:off x="2916360" y="1484280"/>
            <a:ext cx="2808000" cy="434880"/>
          </a:xfrm>
          <a:prstGeom prst="roundRect">
            <a:avLst>
              <a:gd name="adj" fmla="val 50000"/>
            </a:avLst>
          </a:prstGeom>
          <a:solidFill>
            <a:srgbClr val="ecf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5-</a:t>
            </a:r>
            <a:r>
              <a:rPr b="0" lang="zh-CN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核实失败、打不通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26" name="MH_SubTitle_2"/>
          <p:cNvSpPr/>
          <p:nvPr/>
        </p:nvSpPr>
        <p:spPr>
          <a:xfrm>
            <a:off x="2916360" y="2205000"/>
            <a:ext cx="2808000" cy="434880"/>
          </a:xfrm>
          <a:prstGeom prst="roundRect">
            <a:avLst>
              <a:gd name="adj" fmla="val 50000"/>
            </a:avLst>
          </a:prstGeom>
          <a:solidFill>
            <a:srgbClr val="ecf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6-</a:t>
            </a:r>
            <a:r>
              <a:rPr b="0" lang="zh-CN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核实失败、空号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27" name="MH_SubTitle_3"/>
          <p:cNvSpPr/>
          <p:nvPr/>
        </p:nvSpPr>
        <p:spPr>
          <a:xfrm>
            <a:off x="2916360" y="2997360"/>
            <a:ext cx="2879640" cy="414000"/>
          </a:xfrm>
          <a:prstGeom prst="roundRect">
            <a:avLst>
              <a:gd name="adj" fmla="val 50000"/>
            </a:avLst>
          </a:prstGeom>
          <a:solidFill>
            <a:srgbClr val="ecf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7-</a:t>
            </a:r>
            <a:r>
              <a:rPr b="0" lang="zh-CN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核实失败、非受助人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28" name="MH_Other_4"/>
          <p:cNvSpPr/>
          <p:nvPr/>
        </p:nvSpPr>
        <p:spPr>
          <a:xfrm>
            <a:off x="179280" y="2205000"/>
            <a:ext cx="1903680" cy="1903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29" name="MH_Title_1"/>
          <p:cNvSpPr/>
          <p:nvPr/>
        </p:nvSpPr>
        <p:spPr>
          <a:xfrm>
            <a:off x="395280" y="2421000"/>
            <a:ext cx="1479600" cy="1479600"/>
          </a:xfrm>
          <a:prstGeom prst="ellipse">
            <a:avLst/>
          </a:prstGeom>
          <a:solidFill>
            <a:srgbClr val="505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实失败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子类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30" name="MH_SubTitle_3"/>
          <p:cNvSpPr/>
          <p:nvPr/>
        </p:nvSpPr>
        <p:spPr>
          <a:xfrm>
            <a:off x="2916360" y="3860640"/>
            <a:ext cx="2808000" cy="416160"/>
          </a:xfrm>
          <a:prstGeom prst="roundRect">
            <a:avLst>
              <a:gd name="adj" fmla="val 50000"/>
            </a:avLst>
          </a:prstGeom>
          <a:solidFill>
            <a:srgbClr val="ecf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8-</a:t>
            </a:r>
            <a:r>
              <a:rPr b="0" lang="zh-CN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核实失败、非手机号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31" name="MH_SubTitle_3"/>
          <p:cNvSpPr/>
          <p:nvPr/>
        </p:nvSpPr>
        <p:spPr>
          <a:xfrm>
            <a:off x="2916360" y="4653000"/>
            <a:ext cx="2808000" cy="415800"/>
          </a:xfrm>
          <a:prstGeom prst="roundRect">
            <a:avLst>
              <a:gd name="adj" fmla="val 50000"/>
            </a:avLst>
          </a:prstGeom>
          <a:solidFill>
            <a:srgbClr val="ecf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9-</a:t>
            </a:r>
            <a:r>
              <a:rPr b="0" lang="zh-CN" sz="2000" spc="-1" strike="noStrike">
                <a:solidFill>
                  <a:srgbClr val="634816"/>
                </a:solidFill>
                <a:latin typeface="Calibri"/>
                <a:ea typeface="微软雅黑"/>
              </a:rPr>
              <a:t>核实失败、无手机号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32" name="文本框 2"/>
          <p:cNvSpPr/>
          <p:nvPr/>
        </p:nvSpPr>
        <p:spPr>
          <a:xfrm>
            <a:off x="5724360" y="1484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3d3f41"/>
                </a:solidFill>
                <a:latin typeface="Arial"/>
                <a:ea typeface="宋体"/>
              </a:rPr>
              <a:t>电话无人接听，联系不到会员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33" name="文本框 21"/>
          <p:cNvSpPr/>
          <p:nvPr/>
        </p:nvSpPr>
        <p:spPr>
          <a:xfrm>
            <a:off x="5796000" y="2276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Arial"/>
                <a:ea typeface="宋体"/>
              </a:rPr>
              <a:t>电话号是空号，联系不到会员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34" name="文本框 22"/>
          <p:cNvSpPr/>
          <p:nvPr/>
        </p:nvSpPr>
        <p:spPr>
          <a:xfrm>
            <a:off x="5796000" y="299736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Arial"/>
                <a:ea typeface="宋体"/>
              </a:rPr>
              <a:t>电话号非本人，联系不到会员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35" name="文本框 23"/>
          <p:cNvSpPr/>
          <p:nvPr/>
        </p:nvSpPr>
        <p:spPr>
          <a:xfrm>
            <a:off x="5796000" y="3860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Arial"/>
                <a:ea typeface="宋体"/>
              </a:rPr>
              <a:t>不是手机号，联系不到会员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36" name="文本框 24"/>
          <p:cNvSpPr/>
          <p:nvPr/>
        </p:nvSpPr>
        <p:spPr>
          <a:xfrm>
            <a:off x="5796000" y="465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Arial"/>
                <a:ea typeface="宋体"/>
              </a:rPr>
              <a:t>没有手机号，联系不到会员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图片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638" name="动作按钮: 前进或下一项 2"/>
          <p:cNvSpPr/>
          <p:nvPr/>
        </p:nvSpPr>
        <p:spPr>
          <a:xfrm>
            <a:off x="2484360" y="6524640"/>
            <a:ext cx="503280" cy="217440"/>
          </a:xfrm>
          <a:custGeom>
            <a:avLst/>
            <a:gdLst>
              <a:gd name="textAreaLeft" fmla="*/ 14040 w 503280"/>
              <a:gd name="textAreaRight" fmla="*/ 489240 w 5032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9948" h="21600">
                <a:moveTo>
                  <a:pt x="0" y="0"/>
                </a:moveTo>
                <a:lnTo>
                  <a:pt x="49948" y="0"/>
                </a:lnTo>
                <a:lnTo>
                  <a:pt x="49948" y="21600"/>
                </a:lnTo>
                <a:lnTo>
                  <a:pt x="0" y="21600"/>
                </a:lnTo>
                <a:close/>
              </a:path>
              <a:path fill="lightenLess" w="49948" h="21600">
                <a:moveTo>
                  <a:pt x="0" y="0"/>
                </a:moveTo>
                <a:lnTo>
                  <a:pt x="49948" y="0"/>
                </a:lnTo>
                <a:lnTo>
                  <a:pt x="48548" y="1400"/>
                </a:lnTo>
                <a:lnTo>
                  <a:pt x="1400" y="1400"/>
                </a:lnTo>
                <a:close/>
              </a:path>
              <a:path fill="darken" w="49948" h="21600">
                <a:moveTo>
                  <a:pt x="49948" y="0"/>
                </a:moveTo>
                <a:lnTo>
                  <a:pt x="49948" y="21600"/>
                </a:lnTo>
                <a:lnTo>
                  <a:pt x="48548" y="20200"/>
                </a:lnTo>
                <a:lnTo>
                  <a:pt x="48548" y="1400"/>
                </a:lnTo>
                <a:close/>
              </a:path>
              <a:path fill="darkenLess" w="49948" h="21600">
                <a:moveTo>
                  <a:pt x="4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48" y="20200"/>
                </a:lnTo>
                <a:close/>
              </a:path>
              <a:path fill="lighten" w="4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48" h="21600">
                <a:moveTo>
                  <a:pt x="17967" y="3794"/>
                </a:moveTo>
                <a:lnTo>
                  <a:pt x="31980" y="10800"/>
                </a:lnTo>
                <a:lnTo>
                  <a:pt x="17967" y="17806"/>
                </a:lnTo>
                <a:close/>
              </a:path>
            </a:pathLst>
          </a:custGeom>
          <a:solidFill>
            <a:srgbClr val="b80000"/>
          </a:solidFill>
          <a:ln w="1260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矩形 6"/>
          <p:cNvSpPr/>
          <p:nvPr/>
        </p:nvSpPr>
        <p:spPr>
          <a:xfrm>
            <a:off x="264960" y="15840"/>
            <a:ext cx="3946680" cy="749160"/>
          </a:xfrm>
          <a:prstGeom prst="pie">
            <a:avLst/>
          </a:prstGeom>
          <a:solidFill>
            <a:srgbClr val="236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f5f5"/>
                </a:solidFill>
                <a:latin typeface="微软雅黑"/>
                <a:ea typeface="幼圆"/>
              </a:rPr>
              <a:t>对象分类及工作流程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40" name="矩形: 圆角 4"/>
          <p:cNvSpPr/>
          <p:nvPr/>
        </p:nvSpPr>
        <p:spPr>
          <a:xfrm>
            <a:off x="250920" y="2637000"/>
            <a:ext cx="1193760" cy="1623960"/>
          </a:xfrm>
          <a:prstGeom prst="rect">
            <a:avLst/>
          </a:prstGeom>
          <a:solidFill>
            <a:srgbClr val="0070c0"/>
          </a:solidFill>
          <a:ln w="9360">
            <a:solidFill>
              <a:srgbClr val="133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" rIns="11520" tIns="11520" bIns="11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互助金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给付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失败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的会员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641" name="图示 18" descr=""/>
          <p:cNvPicPr/>
          <p:nvPr/>
        </p:nvPicPr>
        <p:blipFill>
          <a:blip r:embed="rId1"/>
          <a:stretch/>
        </p:blipFill>
        <p:spPr>
          <a:xfrm>
            <a:off x="1674720" y="758880"/>
            <a:ext cx="7307280" cy="59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886360"/>
          </a:xfrm>
          <a:prstGeom prst="rect">
            <a:avLst/>
          </a:prstGeom>
          <a:ln w="0">
            <a:noFill/>
          </a:ln>
        </p:spPr>
      </p:pic>
      <p:sp>
        <p:nvSpPr>
          <p:cNvPr id="643" name="文本框 1"/>
          <p:cNvSpPr/>
          <p:nvPr/>
        </p:nvSpPr>
        <p:spPr>
          <a:xfrm>
            <a:off x="179280" y="260280"/>
            <a:ext cx="8785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互助金给付失败会员信息核实名单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办事处官网下载路径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2"/>
          <p:cNvSpPr/>
          <p:nvPr/>
        </p:nvSpPr>
        <p:spPr>
          <a:xfrm>
            <a:off x="179280" y="260280"/>
            <a:ext cx="8785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互助金给付失败会员信息核实名单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办事处官网下载路径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矩形 5"/>
          <p:cNvSpPr/>
          <p:nvPr/>
        </p:nvSpPr>
        <p:spPr>
          <a:xfrm>
            <a:off x="395280" y="404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4b4d"/>
                </a:solidFill>
                <a:latin typeface="黑体"/>
                <a:ea typeface="黑体"/>
              </a:rPr>
              <a:t>2017</a:t>
            </a:r>
            <a:r>
              <a:rPr b="0" lang="zh-CN" sz="2400" spc="-1" strike="noStrike">
                <a:solidFill>
                  <a:srgbClr val="494b4d"/>
                </a:solidFill>
                <a:latin typeface="黑体"/>
                <a:ea typeface="黑体"/>
              </a:rPr>
              <a:t>年第四季度互助金给付失败职工名单（部分截图）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47" name="矩形 6"/>
          <p:cNvSpPr/>
          <p:nvPr/>
        </p:nvSpPr>
        <p:spPr>
          <a:xfrm>
            <a:off x="136440" y="64040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4b4d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494b4d"/>
                </a:solidFill>
                <a:latin typeface="Arial"/>
                <a:ea typeface="宋体"/>
              </a:rPr>
              <a:t>注：在</a:t>
            </a:r>
            <a:r>
              <a:rPr b="0" lang="en-US" sz="1800" spc="-1" strike="noStrike">
                <a:solidFill>
                  <a:srgbClr val="494b4d"/>
                </a:solidFill>
                <a:latin typeface="Arial"/>
              </a:rPr>
              <a:t>12351</a:t>
            </a:r>
            <a:r>
              <a:rPr b="0" lang="zh-CN" sz="1800" spc="-1" strike="noStrike">
                <a:solidFill>
                  <a:srgbClr val="494b4d"/>
                </a:solidFill>
                <a:latin typeface="Arial"/>
                <a:ea typeface="宋体"/>
              </a:rPr>
              <a:t>服务平台中的名单含有职工身份证号码。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30040" y="958680"/>
          <a:ext cx="8683560" cy="4940280"/>
        </p:xfrm>
        <a:graphic>
          <a:graphicData uri="http://schemas.openxmlformats.org/drawingml/2006/table">
            <a:tbl>
              <a:tblPr/>
              <a:tblGrid>
                <a:gridCol w="358920"/>
                <a:gridCol w="855360"/>
                <a:gridCol w="2298960"/>
                <a:gridCol w="2361960"/>
                <a:gridCol w="1152720"/>
                <a:gridCol w="1022400"/>
                <a:gridCol w="633240"/>
              </a:tblGrid>
              <a:tr h="249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一级工会名称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二级工会名称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基层工会名称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姓名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打款失败原因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金额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4932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1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建筑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中国铁路工会中铁二十二局集团有限公司委员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中铁二十二局集团二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高红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卡已注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87.40</a:t>
                      </a: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4932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2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市轨道交通建设管理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市轨道交通运营管理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石凡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姓名不符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60.75</a:t>
                      </a: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4932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3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市基础设施投资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城市快轨建设管理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谢华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卡已作废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58.70</a:t>
                      </a: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4932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市基础设施投资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硅谷科技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李云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卡已作废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115.38</a:t>
                      </a: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4932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市基础设施投资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硅谷科技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丁一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卡已作废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119.19</a:t>
                      </a: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4932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6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市首都公路发展集团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八达岭高速公路管理分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郭赢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姓名不符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215.30</a:t>
                      </a: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7365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市首都公路发展集团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公联安达停车管理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金 </a:t>
                      </a: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YINGYING</a:t>
                      </a: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姓名不符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90.95</a:t>
                      </a: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4932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8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市首都公路发展集团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公联洁达公路养护工程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丁钊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卡已作废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70.76</a:t>
                      </a: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4932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市首都公路发展集团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北京路捷通公路养护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王钢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姓名不符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30.74</a:t>
                      </a:r>
                      <a:r>
                        <a:rPr b="1" lang="zh-CN" sz="1600" spc="-1" strike="noStrike">
                          <a:solidFill>
                            <a:srgbClr val="494b4d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179280" y="849240"/>
            <a:ext cx="8785440" cy="598644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6"/>
          <p:cNvSpPr/>
          <p:nvPr/>
        </p:nvSpPr>
        <p:spPr>
          <a:xfrm>
            <a:off x="179280" y="260280"/>
            <a:ext cx="8785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互助金给付失败会员信息核实名单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三级服务体系平台下载路径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472360"/>
          </a:xfrm>
          <a:prstGeom prst="rect">
            <a:avLst/>
          </a:prstGeom>
          <a:ln w="0">
            <a:noFill/>
          </a:ln>
        </p:spPr>
      </p:pic>
      <p:sp>
        <p:nvSpPr>
          <p:cNvPr id="652" name="文本框 5"/>
          <p:cNvSpPr/>
          <p:nvPr/>
        </p:nvSpPr>
        <p:spPr>
          <a:xfrm>
            <a:off x="179280" y="260280"/>
            <a:ext cx="8785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互助金给付失败会员信息核实名单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三级服务体系平台下载路径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179280" y="801720"/>
            <a:ext cx="8785440" cy="5040360"/>
          </a:xfrm>
          <a:prstGeom prst="rect">
            <a:avLst/>
          </a:prstGeom>
          <a:ln w="0">
            <a:noFill/>
          </a:ln>
        </p:spPr>
      </p:pic>
      <p:sp>
        <p:nvSpPr>
          <p:cNvPr id="654" name="文本框 5"/>
          <p:cNvSpPr/>
          <p:nvPr/>
        </p:nvSpPr>
        <p:spPr>
          <a:xfrm>
            <a:off x="179280" y="260280"/>
            <a:ext cx="8785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互助金给付失败会员信息核实名单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三级服务体系平台下载路径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250920" y="1052640"/>
          <a:ext cx="8713800" cy="4752720"/>
        </p:xfrm>
        <a:graphic>
          <a:graphicData uri="http://schemas.openxmlformats.org/drawingml/2006/table">
            <a:tbl>
              <a:tblPr/>
              <a:tblGrid>
                <a:gridCol w="343080"/>
                <a:gridCol w="522000"/>
                <a:gridCol w="1584360"/>
                <a:gridCol w="1727280"/>
                <a:gridCol w="792000"/>
                <a:gridCol w="1944720"/>
                <a:gridCol w="1052640"/>
                <a:gridCol w="747720"/>
              </a:tblGrid>
              <a:tr h="7362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一级工会名称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二级工会名称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基层工会名称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姓名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身份证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打款失败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原因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金额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建筑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中国铁路工会中铁二十二局集团有限公司委员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中铁二十二局集团二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高红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232************111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卡已注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87.4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北京市轨道交通建设管理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北京市轨道交通运营管理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石凡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113************014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姓名不符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60.7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3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北京市基础设施投资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北京城市快轨建设管理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谢华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232************219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卡已作废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8.7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北京市基础设施投资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北京硅谷科技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李云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119************010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卡已作废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15.3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交通运输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北京市基础设施投资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北京硅谷科技有限公司工会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丁一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222************524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卡已作废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19.1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　</a:t>
                      </a:r>
                      <a:endParaRPr b="0" lang="en-US" sz="1600" spc="-1" strike="noStrike">
                        <a:solidFill>
                          <a:srgbClr val="494b4d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矩形 2"/>
          <p:cNvSpPr/>
          <p:nvPr/>
        </p:nvSpPr>
        <p:spPr>
          <a:xfrm>
            <a:off x="250920" y="260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4b4d"/>
                </a:solidFill>
                <a:latin typeface="幼圆"/>
                <a:ea typeface="幼圆"/>
              </a:rPr>
              <a:t>2017</a:t>
            </a:r>
            <a:r>
              <a:rPr b="1" lang="zh-CN" sz="2400" spc="-1" strike="noStrike">
                <a:solidFill>
                  <a:srgbClr val="494b4d"/>
                </a:solidFill>
                <a:latin typeface="幼圆"/>
                <a:ea typeface="幼圆"/>
              </a:rPr>
              <a:t>年第四季度互助金给付失败职工名单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94b4d"/>
                </a:solidFill>
                <a:latin typeface="幼圆"/>
                <a:ea typeface="幼圆"/>
              </a:rPr>
              <a:t>（</a:t>
            </a:r>
            <a:r>
              <a:rPr b="1" lang="en-US" sz="2400" spc="-1" strike="noStrike">
                <a:solidFill>
                  <a:srgbClr val="494b4d"/>
                </a:solidFill>
                <a:latin typeface="幼圆"/>
                <a:ea typeface="幼圆"/>
              </a:rPr>
              <a:t>12351</a:t>
            </a:r>
            <a:r>
              <a:rPr b="1" lang="zh-CN" sz="2400" spc="-1" strike="noStrike">
                <a:solidFill>
                  <a:srgbClr val="494b4d"/>
                </a:solidFill>
                <a:latin typeface="幼圆"/>
                <a:ea typeface="幼圆"/>
              </a:rPr>
              <a:t>服务平台下载名单部分截图）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6"/>
          <p:cNvSpPr/>
          <p:nvPr/>
        </p:nvSpPr>
        <p:spPr>
          <a:xfrm>
            <a:off x="0" y="0"/>
            <a:ext cx="9036000" cy="1181160"/>
          </a:xfrm>
          <a:prstGeom prst="pie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暖</a:t>
            </a:r>
            <a:r>
              <a:rPr b="1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互助“二次报销”受益会员信息核实管理办法</a:t>
            </a:r>
            <a:r>
              <a:rPr b="1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                                    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2018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年修订版）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564" name="图示 7" descr=""/>
          <p:cNvPicPr/>
          <p:nvPr/>
        </p:nvPicPr>
        <p:blipFill>
          <a:blip r:embed="rId1"/>
          <a:stretch/>
        </p:blipFill>
        <p:spPr>
          <a:xfrm>
            <a:off x="258840" y="1477800"/>
            <a:ext cx="863892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6"/>
          <p:cNvSpPr/>
          <p:nvPr/>
        </p:nvSpPr>
        <p:spPr>
          <a:xfrm>
            <a:off x="264960" y="15840"/>
            <a:ext cx="4019760" cy="820800"/>
          </a:xfrm>
          <a:prstGeom prst="pie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幼圆"/>
              </a:rPr>
              <a:t>核实周期与工作考核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58" name="矩形 2"/>
          <p:cNvSpPr/>
          <p:nvPr/>
        </p:nvSpPr>
        <p:spPr>
          <a:xfrm>
            <a:off x="1547640" y="1074600"/>
            <a:ext cx="6539040" cy="1557000"/>
          </a:xfrm>
          <a:prstGeom prst="rect">
            <a:avLst/>
          </a:prstGeom>
          <a:solidFill>
            <a:srgbClr val="f8f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每一自然年度内，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以季度为周期</a:t>
            </a:r>
            <a:r>
              <a:rPr b="0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上一年第四季度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年第一、二、三季度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对受益会员开展信息核实工作。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59" name="矩形 4"/>
          <p:cNvSpPr/>
          <p:nvPr/>
        </p:nvSpPr>
        <p:spPr>
          <a:xfrm>
            <a:off x="32652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实周期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60" name="文本框 6"/>
          <p:cNvSpPr/>
          <p:nvPr/>
        </p:nvSpPr>
        <p:spPr>
          <a:xfrm>
            <a:off x="65160" y="4262400"/>
            <a:ext cx="1415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工作考核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61" name="矩形 8"/>
          <p:cNvSpPr/>
          <p:nvPr/>
        </p:nvSpPr>
        <p:spPr>
          <a:xfrm>
            <a:off x="1547640" y="2990880"/>
            <a:ext cx="7539120" cy="3020040"/>
          </a:xfrm>
          <a:prstGeom prst="rect">
            <a:avLst/>
          </a:prstGeom>
          <a:solidFill>
            <a:srgbClr val="f8f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*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考核内容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互助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给付成功的会员核实情况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已核实会员人数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已受益会员人数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各代办机构年度工作考核主要内容之一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*</a:t>
            </a:r>
            <a:r>
              <a:rPr b="0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考核数据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以年度内上传到职工互助保障业务系统中的数据为准。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reeform 5"/>
          <p:cNvSpPr/>
          <p:nvPr/>
        </p:nvSpPr>
        <p:spPr>
          <a:xfrm>
            <a:off x="3106800" y="2427120"/>
            <a:ext cx="3270240" cy="552600"/>
          </a:xfrm>
          <a:custGeom>
            <a:avLst/>
            <a:gdLst/>
            <a:ahLst/>
            <a:rect l="l" t="t" r="r" b="b"/>
            <a:pathLst>
              <a:path w="17153" h="2886">
                <a:moveTo>
                  <a:pt x="5348" y="905"/>
                </a:moveTo>
                <a:cubicBezTo>
                  <a:pt x="5315" y="905"/>
                  <a:pt x="5286" y="919"/>
                  <a:pt x="5262" y="947"/>
                </a:cubicBezTo>
                <a:cubicBezTo>
                  <a:pt x="5237" y="975"/>
                  <a:pt x="5217" y="1016"/>
                  <a:pt x="5202" y="1068"/>
                </a:cubicBezTo>
                <a:cubicBezTo>
                  <a:pt x="5127" y="1322"/>
                  <a:pt x="5051" y="1576"/>
                  <a:pt x="4976" y="1830"/>
                </a:cubicBezTo>
                <a:cubicBezTo>
                  <a:pt x="4963" y="1874"/>
                  <a:pt x="4956" y="1914"/>
                  <a:pt x="4956" y="1951"/>
                </a:cubicBezTo>
                <a:cubicBezTo>
                  <a:pt x="4956" y="2003"/>
                  <a:pt x="4976" y="2029"/>
                  <a:pt x="5016" y="2029"/>
                </a:cubicBezTo>
                <a:cubicBezTo>
                  <a:pt x="5067" y="2029"/>
                  <a:pt x="5141" y="1983"/>
                  <a:pt x="5238" y="1891"/>
                </a:cubicBezTo>
                <a:cubicBezTo>
                  <a:pt x="5240" y="1835"/>
                  <a:pt x="5256" y="1755"/>
                  <a:pt x="5285" y="1653"/>
                </a:cubicBezTo>
                <a:cubicBezTo>
                  <a:pt x="5351" y="1427"/>
                  <a:pt x="5418" y="1202"/>
                  <a:pt x="5484" y="977"/>
                </a:cubicBezTo>
                <a:cubicBezTo>
                  <a:pt x="5439" y="929"/>
                  <a:pt x="5394" y="905"/>
                  <a:pt x="5348" y="905"/>
                </a:cubicBezTo>
                <a:close/>
                <a:moveTo>
                  <a:pt x="14384" y="895"/>
                </a:moveTo>
                <a:cubicBezTo>
                  <a:pt x="14343" y="895"/>
                  <a:pt x="14310" y="912"/>
                  <a:pt x="14286" y="945"/>
                </a:cubicBezTo>
                <a:cubicBezTo>
                  <a:pt x="14261" y="978"/>
                  <a:pt x="14239" y="1024"/>
                  <a:pt x="14222" y="1082"/>
                </a:cubicBezTo>
                <a:cubicBezTo>
                  <a:pt x="14139" y="1359"/>
                  <a:pt x="14056" y="1636"/>
                  <a:pt x="13973" y="1912"/>
                </a:cubicBezTo>
                <a:cubicBezTo>
                  <a:pt x="13957" y="1961"/>
                  <a:pt x="13950" y="2004"/>
                  <a:pt x="13950" y="2040"/>
                </a:cubicBezTo>
                <a:cubicBezTo>
                  <a:pt x="13950" y="2071"/>
                  <a:pt x="13959" y="2097"/>
                  <a:pt x="13979" y="2117"/>
                </a:cubicBezTo>
                <a:cubicBezTo>
                  <a:pt x="13998" y="2137"/>
                  <a:pt x="14023" y="2148"/>
                  <a:pt x="14052" y="2148"/>
                </a:cubicBezTo>
                <a:cubicBezTo>
                  <a:pt x="14088" y="2148"/>
                  <a:pt x="14118" y="2136"/>
                  <a:pt x="14141" y="2114"/>
                </a:cubicBezTo>
                <a:cubicBezTo>
                  <a:pt x="14164" y="2091"/>
                  <a:pt x="14183" y="2061"/>
                  <a:pt x="14200" y="2021"/>
                </a:cubicBezTo>
                <a:cubicBezTo>
                  <a:pt x="14216" y="1981"/>
                  <a:pt x="14256" y="1853"/>
                  <a:pt x="14320" y="1634"/>
                </a:cubicBezTo>
                <a:cubicBezTo>
                  <a:pt x="14383" y="1416"/>
                  <a:pt x="14428" y="1265"/>
                  <a:pt x="14454" y="1182"/>
                </a:cubicBezTo>
                <a:cubicBezTo>
                  <a:pt x="14480" y="1098"/>
                  <a:pt x="14493" y="1039"/>
                  <a:pt x="14493" y="1002"/>
                </a:cubicBezTo>
                <a:cubicBezTo>
                  <a:pt x="14493" y="974"/>
                  <a:pt x="14482" y="948"/>
                  <a:pt x="14461" y="927"/>
                </a:cubicBezTo>
                <a:cubicBezTo>
                  <a:pt x="14440" y="906"/>
                  <a:pt x="14415" y="895"/>
                  <a:pt x="14384" y="895"/>
                </a:cubicBezTo>
                <a:close/>
                <a:moveTo>
                  <a:pt x="11987" y="842"/>
                </a:moveTo>
                <a:cubicBezTo>
                  <a:pt x="12083" y="842"/>
                  <a:pt x="12159" y="864"/>
                  <a:pt x="12216" y="906"/>
                </a:cubicBezTo>
                <a:cubicBezTo>
                  <a:pt x="12274" y="949"/>
                  <a:pt x="12302" y="1003"/>
                  <a:pt x="12302" y="1068"/>
                </a:cubicBezTo>
                <a:cubicBezTo>
                  <a:pt x="12302" y="1099"/>
                  <a:pt x="12291" y="1153"/>
                  <a:pt x="12270" y="1230"/>
                </a:cubicBezTo>
                <a:cubicBezTo>
                  <a:pt x="12206" y="1459"/>
                  <a:pt x="12142" y="1689"/>
                  <a:pt x="12078" y="1918"/>
                </a:cubicBezTo>
                <a:cubicBezTo>
                  <a:pt x="12070" y="1944"/>
                  <a:pt x="12066" y="1970"/>
                  <a:pt x="12066" y="1997"/>
                </a:cubicBezTo>
                <a:cubicBezTo>
                  <a:pt x="12066" y="2018"/>
                  <a:pt x="12075" y="2029"/>
                  <a:pt x="12093" y="2029"/>
                </a:cubicBezTo>
                <a:cubicBezTo>
                  <a:pt x="12133" y="2029"/>
                  <a:pt x="12216" y="1978"/>
                  <a:pt x="12342" y="1875"/>
                </a:cubicBezTo>
                <a:cubicBezTo>
                  <a:pt x="12441" y="1542"/>
                  <a:pt x="12540" y="1209"/>
                  <a:pt x="12639" y="876"/>
                </a:cubicBezTo>
                <a:cubicBezTo>
                  <a:pt x="12873" y="876"/>
                  <a:pt x="13108" y="876"/>
                  <a:pt x="13342" y="876"/>
                </a:cubicBezTo>
                <a:cubicBezTo>
                  <a:pt x="13213" y="1312"/>
                  <a:pt x="13083" y="1748"/>
                  <a:pt x="12953" y="2184"/>
                </a:cubicBezTo>
                <a:cubicBezTo>
                  <a:pt x="12868" y="2465"/>
                  <a:pt x="12729" y="2652"/>
                  <a:pt x="12535" y="2746"/>
                </a:cubicBezTo>
                <a:cubicBezTo>
                  <a:pt x="12341" y="2839"/>
                  <a:pt x="12125" y="2886"/>
                  <a:pt x="11886" y="2886"/>
                </a:cubicBezTo>
                <a:cubicBezTo>
                  <a:pt x="11695" y="2886"/>
                  <a:pt x="11537" y="2849"/>
                  <a:pt x="11413" y="2775"/>
                </a:cubicBezTo>
                <a:cubicBezTo>
                  <a:pt x="11289" y="2702"/>
                  <a:pt x="11227" y="2609"/>
                  <a:pt x="11227" y="2498"/>
                </a:cubicBezTo>
                <a:cubicBezTo>
                  <a:pt x="11227" y="2431"/>
                  <a:pt x="11250" y="2373"/>
                  <a:pt x="11298" y="2324"/>
                </a:cubicBezTo>
                <a:cubicBezTo>
                  <a:pt x="11346" y="2275"/>
                  <a:pt x="11402" y="2250"/>
                  <a:pt x="11466" y="2250"/>
                </a:cubicBezTo>
                <a:cubicBezTo>
                  <a:pt x="11534" y="2250"/>
                  <a:pt x="11590" y="2275"/>
                  <a:pt x="11636" y="2325"/>
                </a:cubicBezTo>
                <a:cubicBezTo>
                  <a:pt x="11681" y="2375"/>
                  <a:pt x="11704" y="2439"/>
                  <a:pt x="11704" y="2516"/>
                </a:cubicBezTo>
                <a:cubicBezTo>
                  <a:pt x="11704" y="2622"/>
                  <a:pt x="11656" y="2702"/>
                  <a:pt x="11560" y="2758"/>
                </a:cubicBezTo>
                <a:cubicBezTo>
                  <a:pt x="11619" y="2793"/>
                  <a:pt x="11685" y="2811"/>
                  <a:pt x="11758" y="2811"/>
                </a:cubicBezTo>
                <a:cubicBezTo>
                  <a:pt x="11831" y="2811"/>
                  <a:pt x="11896" y="2795"/>
                  <a:pt x="11952" y="2763"/>
                </a:cubicBezTo>
                <a:cubicBezTo>
                  <a:pt x="12009" y="2731"/>
                  <a:pt x="12055" y="2684"/>
                  <a:pt x="12091" y="2622"/>
                </a:cubicBezTo>
                <a:cubicBezTo>
                  <a:pt x="12126" y="2560"/>
                  <a:pt x="12161" y="2473"/>
                  <a:pt x="12194" y="2362"/>
                </a:cubicBezTo>
                <a:cubicBezTo>
                  <a:pt x="12233" y="2235"/>
                  <a:pt x="12273" y="2108"/>
                  <a:pt x="12312" y="1981"/>
                </a:cubicBezTo>
                <a:cubicBezTo>
                  <a:pt x="12310" y="1979"/>
                  <a:pt x="12307" y="1977"/>
                  <a:pt x="12305" y="1975"/>
                </a:cubicBezTo>
                <a:cubicBezTo>
                  <a:pt x="12094" y="2136"/>
                  <a:pt x="11910" y="2216"/>
                  <a:pt x="11752" y="2216"/>
                </a:cubicBezTo>
                <a:cubicBezTo>
                  <a:pt x="11653" y="2216"/>
                  <a:pt x="11572" y="2189"/>
                  <a:pt x="11508" y="2134"/>
                </a:cubicBezTo>
                <a:cubicBezTo>
                  <a:pt x="11444" y="2079"/>
                  <a:pt x="11412" y="2010"/>
                  <a:pt x="11412" y="1928"/>
                </a:cubicBezTo>
                <a:cubicBezTo>
                  <a:pt x="11412" y="1866"/>
                  <a:pt x="11427" y="1785"/>
                  <a:pt x="11458" y="1685"/>
                </a:cubicBezTo>
                <a:cubicBezTo>
                  <a:pt x="11499" y="1547"/>
                  <a:pt x="11540" y="1409"/>
                  <a:pt x="11581" y="1271"/>
                </a:cubicBezTo>
                <a:cubicBezTo>
                  <a:pt x="11588" y="1250"/>
                  <a:pt x="11592" y="1230"/>
                  <a:pt x="11592" y="1212"/>
                </a:cubicBezTo>
                <a:cubicBezTo>
                  <a:pt x="11592" y="1184"/>
                  <a:pt x="11584" y="1171"/>
                  <a:pt x="11566" y="1171"/>
                </a:cubicBezTo>
                <a:cubicBezTo>
                  <a:pt x="11530" y="1171"/>
                  <a:pt x="11477" y="1243"/>
                  <a:pt x="11406" y="1387"/>
                </a:cubicBezTo>
                <a:cubicBezTo>
                  <a:pt x="11386" y="1376"/>
                  <a:pt x="11365" y="1365"/>
                  <a:pt x="11344" y="1355"/>
                </a:cubicBezTo>
                <a:cubicBezTo>
                  <a:pt x="11417" y="1190"/>
                  <a:pt x="11510" y="1064"/>
                  <a:pt x="11624" y="975"/>
                </a:cubicBezTo>
                <a:cubicBezTo>
                  <a:pt x="11737" y="886"/>
                  <a:pt x="11859" y="842"/>
                  <a:pt x="11987" y="842"/>
                </a:cubicBezTo>
                <a:close/>
                <a:moveTo>
                  <a:pt x="5230" y="826"/>
                </a:moveTo>
                <a:cubicBezTo>
                  <a:pt x="5347" y="826"/>
                  <a:pt x="5438" y="856"/>
                  <a:pt x="5505" y="914"/>
                </a:cubicBezTo>
                <a:cubicBezTo>
                  <a:pt x="5508" y="901"/>
                  <a:pt x="5510" y="889"/>
                  <a:pt x="5513" y="876"/>
                </a:cubicBezTo>
                <a:cubicBezTo>
                  <a:pt x="5746" y="876"/>
                  <a:pt x="5979" y="876"/>
                  <a:pt x="6211" y="876"/>
                </a:cubicBezTo>
                <a:cubicBezTo>
                  <a:pt x="6030" y="1488"/>
                  <a:pt x="5932" y="1818"/>
                  <a:pt x="5917" y="1866"/>
                </a:cubicBezTo>
                <a:cubicBezTo>
                  <a:pt x="5901" y="1914"/>
                  <a:pt x="5894" y="1947"/>
                  <a:pt x="5894" y="1967"/>
                </a:cubicBezTo>
                <a:cubicBezTo>
                  <a:pt x="5894" y="1977"/>
                  <a:pt x="5898" y="1987"/>
                  <a:pt x="5907" y="1996"/>
                </a:cubicBezTo>
                <a:cubicBezTo>
                  <a:pt x="5916" y="2005"/>
                  <a:pt x="5925" y="2010"/>
                  <a:pt x="5933" y="2010"/>
                </a:cubicBezTo>
                <a:cubicBezTo>
                  <a:pt x="5955" y="2010"/>
                  <a:pt x="5987" y="1979"/>
                  <a:pt x="6028" y="1916"/>
                </a:cubicBezTo>
                <a:cubicBezTo>
                  <a:pt x="6070" y="1854"/>
                  <a:pt x="6108" y="1781"/>
                  <a:pt x="6140" y="1699"/>
                </a:cubicBezTo>
                <a:cubicBezTo>
                  <a:pt x="6159" y="1709"/>
                  <a:pt x="6178" y="1718"/>
                  <a:pt x="6197" y="1728"/>
                </a:cubicBezTo>
                <a:cubicBezTo>
                  <a:pt x="6076" y="2054"/>
                  <a:pt x="5886" y="2216"/>
                  <a:pt x="5628" y="2216"/>
                </a:cubicBezTo>
                <a:cubicBezTo>
                  <a:pt x="5542" y="2216"/>
                  <a:pt x="5464" y="2193"/>
                  <a:pt x="5396" y="2148"/>
                </a:cubicBezTo>
                <a:cubicBezTo>
                  <a:pt x="5327" y="2102"/>
                  <a:pt x="5279" y="2040"/>
                  <a:pt x="5253" y="1963"/>
                </a:cubicBezTo>
                <a:cubicBezTo>
                  <a:pt x="5091" y="2132"/>
                  <a:pt x="4916" y="2216"/>
                  <a:pt x="4728" y="2216"/>
                </a:cubicBezTo>
                <a:cubicBezTo>
                  <a:pt x="4590" y="2216"/>
                  <a:pt x="4477" y="2173"/>
                  <a:pt x="4388" y="2087"/>
                </a:cubicBezTo>
                <a:cubicBezTo>
                  <a:pt x="4299" y="2000"/>
                  <a:pt x="4255" y="1890"/>
                  <a:pt x="4255" y="1757"/>
                </a:cubicBezTo>
                <a:cubicBezTo>
                  <a:pt x="4255" y="1522"/>
                  <a:pt x="4355" y="1308"/>
                  <a:pt x="4556" y="1115"/>
                </a:cubicBezTo>
                <a:cubicBezTo>
                  <a:pt x="4757" y="923"/>
                  <a:pt x="4982" y="826"/>
                  <a:pt x="5230" y="826"/>
                </a:cubicBezTo>
                <a:close/>
                <a:moveTo>
                  <a:pt x="14324" y="823"/>
                </a:moveTo>
                <a:cubicBezTo>
                  <a:pt x="14550" y="823"/>
                  <a:pt x="14734" y="877"/>
                  <a:pt x="14876" y="986"/>
                </a:cubicBezTo>
                <a:cubicBezTo>
                  <a:pt x="15018" y="1094"/>
                  <a:pt x="15090" y="1232"/>
                  <a:pt x="15090" y="1400"/>
                </a:cubicBezTo>
                <a:cubicBezTo>
                  <a:pt x="15090" y="1630"/>
                  <a:pt x="14994" y="1824"/>
                  <a:pt x="14804" y="1981"/>
                </a:cubicBezTo>
                <a:cubicBezTo>
                  <a:pt x="14614" y="2138"/>
                  <a:pt x="14376" y="2216"/>
                  <a:pt x="14092" y="2216"/>
                </a:cubicBezTo>
                <a:cubicBezTo>
                  <a:pt x="13872" y="2216"/>
                  <a:pt x="13695" y="2158"/>
                  <a:pt x="13561" y="2043"/>
                </a:cubicBezTo>
                <a:cubicBezTo>
                  <a:pt x="13427" y="1927"/>
                  <a:pt x="13360" y="1776"/>
                  <a:pt x="13360" y="1590"/>
                </a:cubicBezTo>
                <a:cubicBezTo>
                  <a:pt x="13360" y="1373"/>
                  <a:pt x="13452" y="1191"/>
                  <a:pt x="13637" y="1044"/>
                </a:cubicBezTo>
                <a:cubicBezTo>
                  <a:pt x="13822" y="897"/>
                  <a:pt x="14051" y="823"/>
                  <a:pt x="14324" y="823"/>
                </a:cubicBezTo>
                <a:close/>
                <a:moveTo>
                  <a:pt x="16227" y="810"/>
                </a:moveTo>
                <a:cubicBezTo>
                  <a:pt x="16047" y="1419"/>
                  <a:pt x="15952" y="1739"/>
                  <a:pt x="15942" y="1772"/>
                </a:cubicBezTo>
                <a:cubicBezTo>
                  <a:pt x="15932" y="1805"/>
                  <a:pt x="15927" y="1828"/>
                  <a:pt x="15927" y="1843"/>
                </a:cubicBezTo>
                <a:cubicBezTo>
                  <a:pt x="15927" y="1871"/>
                  <a:pt x="15938" y="1885"/>
                  <a:pt x="15961" y="1885"/>
                </a:cubicBezTo>
                <a:cubicBezTo>
                  <a:pt x="15973" y="1885"/>
                  <a:pt x="15989" y="1879"/>
                  <a:pt x="16007" y="1867"/>
                </a:cubicBezTo>
                <a:cubicBezTo>
                  <a:pt x="16025" y="1855"/>
                  <a:pt x="16044" y="1840"/>
                  <a:pt x="16066" y="1820"/>
                </a:cubicBezTo>
                <a:cubicBezTo>
                  <a:pt x="16087" y="1800"/>
                  <a:pt x="16108" y="1779"/>
                  <a:pt x="16129" y="1755"/>
                </a:cubicBezTo>
                <a:cubicBezTo>
                  <a:pt x="16149" y="1732"/>
                  <a:pt x="16170" y="1707"/>
                  <a:pt x="16190" y="1681"/>
                </a:cubicBezTo>
                <a:cubicBezTo>
                  <a:pt x="16196" y="1675"/>
                  <a:pt x="16202" y="1669"/>
                  <a:pt x="16208" y="1662"/>
                </a:cubicBezTo>
                <a:cubicBezTo>
                  <a:pt x="16213" y="1656"/>
                  <a:pt x="16233" y="1593"/>
                  <a:pt x="16268" y="1475"/>
                </a:cubicBezTo>
                <a:cubicBezTo>
                  <a:pt x="16327" y="1275"/>
                  <a:pt x="16387" y="1075"/>
                  <a:pt x="16446" y="876"/>
                </a:cubicBezTo>
                <a:cubicBezTo>
                  <a:pt x="16682" y="876"/>
                  <a:pt x="16918" y="876"/>
                  <a:pt x="17153" y="876"/>
                </a:cubicBezTo>
                <a:cubicBezTo>
                  <a:pt x="17087" y="1097"/>
                  <a:pt x="17021" y="1319"/>
                  <a:pt x="16956" y="1540"/>
                </a:cubicBezTo>
                <a:cubicBezTo>
                  <a:pt x="16894" y="1751"/>
                  <a:pt x="16862" y="1862"/>
                  <a:pt x="16858" y="1875"/>
                </a:cubicBezTo>
                <a:cubicBezTo>
                  <a:pt x="16855" y="1888"/>
                  <a:pt x="16853" y="1900"/>
                  <a:pt x="16853" y="1912"/>
                </a:cubicBezTo>
                <a:cubicBezTo>
                  <a:pt x="16853" y="1944"/>
                  <a:pt x="16864" y="1960"/>
                  <a:pt x="16887" y="1960"/>
                </a:cubicBezTo>
                <a:cubicBezTo>
                  <a:pt x="16914" y="1960"/>
                  <a:pt x="16948" y="1931"/>
                  <a:pt x="16988" y="1871"/>
                </a:cubicBezTo>
                <a:cubicBezTo>
                  <a:pt x="17028" y="1812"/>
                  <a:pt x="17061" y="1739"/>
                  <a:pt x="17087" y="1653"/>
                </a:cubicBezTo>
                <a:cubicBezTo>
                  <a:pt x="17109" y="1660"/>
                  <a:pt x="17131" y="1668"/>
                  <a:pt x="17153" y="1675"/>
                </a:cubicBezTo>
                <a:cubicBezTo>
                  <a:pt x="17031" y="2036"/>
                  <a:pt x="16822" y="2216"/>
                  <a:pt x="16527" y="2216"/>
                </a:cubicBezTo>
                <a:cubicBezTo>
                  <a:pt x="16419" y="2216"/>
                  <a:pt x="16332" y="2190"/>
                  <a:pt x="16267" y="2136"/>
                </a:cubicBezTo>
                <a:cubicBezTo>
                  <a:pt x="16202" y="2083"/>
                  <a:pt x="16170" y="2012"/>
                  <a:pt x="16170" y="1925"/>
                </a:cubicBezTo>
                <a:cubicBezTo>
                  <a:pt x="16170" y="1895"/>
                  <a:pt x="16175" y="1854"/>
                  <a:pt x="16186" y="1803"/>
                </a:cubicBezTo>
                <a:cubicBezTo>
                  <a:pt x="16184" y="1801"/>
                  <a:pt x="16182" y="1799"/>
                  <a:pt x="16180" y="1797"/>
                </a:cubicBezTo>
                <a:cubicBezTo>
                  <a:pt x="15942" y="2077"/>
                  <a:pt x="15729" y="2216"/>
                  <a:pt x="15541" y="2216"/>
                </a:cubicBezTo>
                <a:cubicBezTo>
                  <a:pt x="15445" y="2216"/>
                  <a:pt x="15367" y="2189"/>
                  <a:pt x="15307" y="2133"/>
                </a:cubicBezTo>
                <a:cubicBezTo>
                  <a:pt x="15247" y="2078"/>
                  <a:pt x="15217" y="2006"/>
                  <a:pt x="15217" y="1918"/>
                </a:cubicBezTo>
                <a:cubicBezTo>
                  <a:pt x="15217" y="1872"/>
                  <a:pt x="15229" y="1807"/>
                  <a:pt x="15254" y="1726"/>
                </a:cubicBezTo>
                <a:cubicBezTo>
                  <a:pt x="15331" y="1464"/>
                  <a:pt x="15409" y="1202"/>
                  <a:pt x="15486" y="940"/>
                </a:cubicBezTo>
                <a:cubicBezTo>
                  <a:pt x="15422" y="940"/>
                  <a:pt x="15357" y="940"/>
                  <a:pt x="15292" y="940"/>
                </a:cubicBezTo>
                <a:cubicBezTo>
                  <a:pt x="15298" y="919"/>
                  <a:pt x="15304" y="897"/>
                  <a:pt x="15311" y="876"/>
                </a:cubicBezTo>
                <a:cubicBezTo>
                  <a:pt x="15667" y="876"/>
                  <a:pt x="15972" y="854"/>
                  <a:pt x="16227" y="810"/>
                </a:cubicBezTo>
                <a:close/>
                <a:moveTo>
                  <a:pt x="7400" y="810"/>
                </a:moveTo>
                <a:cubicBezTo>
                  <a:pt x="7356" y="950"/>
                  <a:pt x="7311" y="1090"/>
                  <a:pt x="7266" y="1230"/>
                </a:cubicBezTo>
                <a:cubicBezTo>
                  <a:pt x="7268" y="1232"/>
                  <a:pt x="7270" y="1234"/>
                  <a:pt x="7272" y="1236"/>
                </a:cubicBezTo>
                <a:cubicBezTo>
                  <a:pt x="7492" y="963"/>
                  <a:pt x="7710" y="826"/>
                  <a:pt x="7924" y="826"/>
                </a:cubicBezTo>
                <a:cubicBezTo>
                  <a:pt x="8011" y="826"/>
                  <a:pt x="8084" y="852"/>
                  <a:pt x="8144" y="902"/>
                </a:cubicBezTo>
                <a:cubicBezTo>
                  <a:pt x="8203" y="953"/>
                  <a:pt x="8233" y="1015"/>
                  <a:pt x="8233" y="1089"/>
                </a:cubicBezTo>
                <a:cubicBezTo>
                  <a:pt x="8233" y="1146"/>
                  <a:pt x="8216" y="1235"/>
                  <a:pt x="8180" y="1355"/>
                </a:cubicBezTo>
                <a:cubicBezTo>
                  <a:pt x="8134" y="1511"/>
                  <a:pt x="8088" y="1666"/>
                  <a:pt x="8041" y="1822"/>
                </a:cubicBezTo>
                <a:cubicBezTo>
                  <a:pt x="8030" y="1862"/>
                  <a:pt x="8024" y="1895"/>
                  <a:pt x="8024" y="1922"/>
                </a:cubicBezTo>
                <a:cubicBezTo>
                  <a:pt x="8024" y="1931"/>
                  <a:pt x="8028" y="1940"/>
                  <a:pt x="8035" y="1948"/>
                </a:cubicBezTo>
                <a:cubicBezTo>
                  <a:pt x="8042" y="1956"/>
                  <a:pt x="8050" y="1960"/>
                  <a:pt x="8059" y="1960"/>
                </a:cubicBezTo>
                <a:cubicBezTo>
                  <a:pt x="8086" y="1960"/>
                  <a:pt x="8119" y="1932"/>
                  <a:pt x="8158" y="1874"/>
                </a:cubicBezTo>
                <a:cubicBezTo>
                  <a:pt x="8196" y="1817"/>
                  <a:pt x="8230" y="1743"/>
                  <a:pt x="8258" y="1653"/>
                </a:cubicBezTo>
                <a:cubicBezTo>
                  <a:pt x="8280" y="1661"/>
                  <a:pt x="8302" y="1670"/>
                  <a:pt x="8324" y="1678"/>
                </a:cubicBezTo>
                <a:cubicBezTo>
                  <a:pt x="8215" y="2037"/>
                  <a:pt x="8010" y="2216"/>
                  <a:pt x="7709" y="2216"/>
                </a:cubicBezTo>
                <a:cubicBezTo>
                  <a:pt x="7597" y="2216"/>
                  <a:pt x="7507" y="2191"/>
                  <a:pt x="7439" y="2139"/>
                </a:cubicBezTo>
                <a:cubicBezTo>
                  <a:pt x="7371" y="2087"/>
                  <a:pt x="7338" y="2019"/>
                  <a:pt x="7338" y="1935"/>
                </a:cubicBezTo>
                <a:cubicBezTo>
                  <a:pt x="7338" y="1890"/>
                  <a:pt x="7345" y="1841"/>
                  <a:pt x="7360" y="1787"/>
                </a:cubicBezTo>
                <a:cubicBezTo>
                  <a:pt x="7409" y="1618"/>
                  <a:pt x="7459" y="1450"/>
                  <a:pt x="7509" y="1281"/>
                </a:cubicBezTo>
                <a:cubicBezTo>
                  <a:pt x="7522" y="1235"/>
                  <a:pt x="7529" y="1201"/>
                  <a:pt x="7529" y="1180"/>
                </a:cubicBezTo>
                <a:cubicBezTo>
                  <a:pt x="7529" y="1153"/>
                  <a:pt x="7518" y="1140"/>
                  <a:pt x="7496" y="1140"/>
                </a:cubicBezTo>
                <a:cubicBezTo>
                  <a:pt x="7484" y="1140"/>
                  <a:pt x="7469" y="1145"/>
                  <a:pt x="7452" y="1155"/>
                </a:cubicBezTo>
                <a:cubicBezTo>
                  <a:pt x="7435" y="1165"/>
                  <a:pt x="7416" y="1180"/>
                  <a:pt x="7395" y="1199"/>
                </a:cubicBezTo>
                <a:cubicBezTo>
                  <a:pt x="7374" y="1219"/>
                  <a:pt x="7351" y="1243"/>
                  <a:pt x="7325" y="1271"/>
                </a:cubicBezTo>
                <a:cubicBezTo>
                  <a:pt x="7299" y="1300"/>
                  <a:pt x="7270" y="1334"/>
                  <a:pt x="7237" y="1374"/>
                </a:cubicBezTo>
                <a:cubicBezTo>
                  <a:pt x="7234" y="1378"/>
                  <a:pt x="7206" y="1469"/>
                  <a:pt x="7153" y="1646"/>
                </a:cubicBezTo>
                <a:cubicBezTo>
                  <a:pt x="7098" y="1833"/>
                  <a:pt x="7042" y="2020"/>
                  <a:pt x="6986" y="2207"/>
                </a:cubicBezTo>
                <a:cubicBezTo>
                  <a:pt x="6752" y="2207"/>
                  <a:pt x="6517" y="2207"/>
                  <a:pt x="6282" y="2207"/>
                </a:cubicBezTo>
                <a:cubicBezTo>
                  <a:pt x="6407" y="1784"/>
                  <a:pt x="6532" y="1362"/>
                  <a:pt x="6657" y="940"/>
                </a:cubicBezTo>
                <a:cubicBezTo>
                  <a:pt x="6592" y="940"/>
                  <a:pt x="6527" y="940"/>
                  <a:pt x="6462" y="940"/>
                </a:cubicBezTo>
                <a:cubicBezTo>
                  <a:pt x="6469" y="919"/>
                  <a:pt x="6476" y="897"/>
                  <a:pt x="6483" y="876"/>
                </a:cubicBezTo>
                <a:cubicBezTo>
                  <a:pt x="6495" y="876"/>
                  <a:pt x="6507" y="876"/>
                  <a:pt x="6520" y="876"/>
                </a:cubicBezTo>
                <a:cubicBezTo>
                  <a:pt x="6629" y="876"/>
                  <a:pt x="6776" y="870"/>
                  <a:pt x="6962" y="857"/>
                </a:cubicBezTo>
                <a:cubicBezTo>
                  <a:pt x="7148" y="845"/>
                  <a:pt x="7294" y="829"/>
                  <a:pt x="7400" y="810"/>
                </a:cubicBezTo>
                <a:close/>
                <a:moveTo>
                  <a:pt x="306" y="59"/>
                </a:moveTo>
                <a:cubicBezTo>
                  <a:pt x="1030" y="59"/>
                  <a:pt x="1754" y="59"/>
                  <a:pt x="2479" y="59"/>
                </a:cubicBezTo>
                <a:cubicBezTo>
                  <a:pt x="2412" y="283"/>
                  <a:pt x="2345" y="506"/>
                  <a:pt x="2278" y="730"/>
                </a:cubicBezTo>
                <a:cubicBezTo>
                  <a:pt x="2254" y="730"/>
                  <a:pt x="2231" y="730"/>
                  <a:pt x="2207" y="730"/>
                </a:cubicBezTo>
                <a:cubicBezTo>
                  <a:pt x="2207" y="725"/>
                  <a:pt x="2207" y="719"/>
                  <a:pt x="2207" y="714"/>
                </a:cubicBezTo>
                <a:cubicBezTo>
                  <a:pt x="2207" y="569"/>
                  <a:pt x="2171" y="444"/>
                  <a:pt x="2101" y="338"/>
                </a:cubicBezTo>
                <a:cubicBezTo>
                  <a:pt x="2030" y="233"/>
                  <a:pt x="1932" y="165"/>
                  <a:pt x="1807" y="134"/>
                </a:cubicBezTo>
                <a:cubicBezTo>
                  <a:pt x="1612" y="800"/>
                  <a:pt x="1416" y="1466"/>
                  <a:pt x="1220" y="2132"/>
                </a:cubicBezTo>
                <a:cubicBezTo>
                  <a:pt x="1332" y="2132"/>
                  <a:pt x="1444" y="2132"/>
                  <a:pt x="1555" y="2132"/>
                </a:cubicBezTo>
                <a:cubicBezTo>
                  <a:pt x="1548" y="2157"/>
                  <a:pt x="1540" y="2182"/>
                  <a:pt x="1532" y="2207"/>
                </a:cubicBezTo>
                <a:cubicBezTo>
                  <a:pt x="1021" y="2207"/>
                  <a:pt x="511" y="2207"/>
                  <a:pt x="0" y="2207"/>
                </a:cubicBezTo>
                <a:cubicBezTo>
                  <a:pt x="7" y="2182"/>
                  <a:pt x="15" y="2157"/>
                  <a:pt x="22" y="2132"/>
                </a:cubicBezTo>
                <a:cubicBezTo>
                  <a:pt x="124" y="2132"/>
                  <a:pt x="226" y="2132"/>
                  <a:pt x="328" y="2132"/>
                </a:cubicBezTo>
                <a:cubicBezTo>
                  <a:pt x="522" y="1466"/>
                  <a:pt x="717" y="800"/>
                  <a:pt x="912" y="134"/>
                </a:cubicBezTo>
                <a:cubicBezTo>
                  <a:pt x="785" y="142"/>
                  <a:pt x="655" y="201"/>
                  <a:pt x="522" y="313"/>
                </a:cubicBezTo>
                <a:cubicBezTo>
                  <a:pt x="388" y="424"/>
                  <a:pt x="277" y="568"/>
                  <a:pt x="189" y="744"/>
                </a:cubicBezTo>
                <a:cubicBezTo>
                  <a:pt x="163" y="744"/>
                  <a:pt x="137" y="744"/>
                  <a:pt x="111" y="744"/>
                </a:cubicBezTo>
                <a:cubicBezTo>
                  <a:pt x="176" y="516"/>
                  <a:pt x="241" y="287"/>
                  <a:pt x="306" y="59"/>
                </a:cubicBezTo>
                <a:close/>
                <a:moveTo>
                  <a:pt x="9737" y="0"/>
                </a:moveTo>
                <a:cubicBezTo>
                  <a:pt x="9598" y="468"/>
                  <a:pt x="9459" y="937"/>
                  <a:pt x="9320" y="1406"/>
                </a:cubicBezTo>
                <a:cubicBezTo>
                  <a:pt x="9392" y="1404"/>
                  <a:pt x="9471" y="1310"/>
                  <a:pt x="9557" y="1124"/>
                </a:cubicBezTo>
                <a:cubicBezTo>
                  <a:pt x="9596" y="1037"/>
                  <a:pt x="9629" y="975"/>
                  <a:pt x="9656" y="939"/>
                </a:cubicBezTo>
                <a:cubicBezTo>
                  <a:pt x="9682" y="903"/>
                  <a:pt x="9718" y="873"/>
                  <a:pt x="9761" y="848"/>
                </a:cubicBezTo>
                <a:cubicBezTo>
                  <a:pt x="9804" y="823"/>
                  <a:pt x="9850" y="810"/>
                  <a:pt x="9898" y="810"/>
                </a:cubicBezTo>
                <a:cubicBezTo>
                  <a:pt x="9962" y="810"/>
                  <a:pt x="10016" y="831"/>
                  <a:pt x="10059" y="873"/>
                </a:cubicBezTo>
                <a:cubicBezTo>
                  <a:pt x="10102" y="914"/>
                  <a:pt x="10123" y="966"/>
                  <a:pt x="10123" y="1026"/>
                </a:cubicBezTo>
                <a:cubicBezTo>
                  <a:pt x="10123" y="1088"/>
                  <a:pt x="10106" y="1139"/>
                  <a:pt x="10070" y="1179"/>
                </a:cubicBezTo>
                <a:cubicBezTo>
                  <a:pt x="10035" y="1219"/>
                  <a:pt x="9990" y="1239"/>
                  <a:pt x="9934" y="1239"/>
                </a:cubicBezTo>
                <a:cubicBezTo>
                  <a:pt x="9881" y="1239"/>
                  <a:pt x="9835" y="1219"/>
                  <a:pt x="9797" y="1179"/>
                </a:cubicBezTo>
                <a:cubicBezTo>
                  <a:pt x="9759" y="1138"/>
                  <a:pt x="9740" y="1089"/>
                  <a:pt x="9740" y="1033"/>
                </a:cubicBezTo>
                <a:cubicBezTo>
                  <a:pt x="9740" y="1002"/>
                  <a:pt x="9747" y="971"/>
                  <a:pt x="9760" y="940"/>
                </a:cubicBezTo>
                <a:cubicBezTo>
                  <a:pt x="9728" y="955"/>
                  <a:pt x="9702" y="977"/>
                  <a:pt x="9683" y="1007"/>
                </a:cubicBezTo>
                <a:cubicBezTo>
                  <a:pt x="9664" y="1037"/>
                  <a:pt x="9632" y="1103"/>
                  <a:pt x="9586" y="1206"/>
                </a:cubicBezTo>
                <a:cubicBezTo>
                  <a:pt x="9568" y="1250"/>
                  <a:pt x="9536" y="1297"/>
                  <a:pt x="9491" y="1347"/>
                </a:cubicBezTo>
                <a:cubicBezTo>
                  <a:pt x="9495" y="1348"/>
                  <a:pt x="9499" y="1349"/>
                  <a:pt x="9503" y="1350"/>
                </a:cubicBezTo>
                <a:cubicBezTo>
                  <a:pt x="9535" y="1342"/>
                  <a:pt x="9567" y="1334"/>
                  <a:pt x="9599" y="1326"/>
                </a:cubicBezTo>
                <a:cubicBezTo>
                  <a:pt x="9629" y="1318"/>
                  <a:pt x="9658" y="1315"/>
                  <a:pt x="9686" y="1315"/>
                </a:cubicBezTo>
                <a:cubicBezTo>
                  <a:pt x="9786" y="1315"/>
                  <a:pt x="9871" y="1340"/>
                  <a:pt x="9939" y="1392"/>
                </a:cubicBezTo>
                <a:cubicBezTo>
                  <a:pt x="10008" y="1443"/>
                  <a:pt x="10043" y="1505"/>
                  <a:pt x="10043" y="1577"/>
                </a:cubicBezTo>
                <a:cubicBezTo>
                  <a:pt x="10043" y="1606"/>
                  <a:pt x="10037" y="1641"/>
                  <a:pt x="10025" y="1681"/>
                </a:cubicBezTo>
                <a:cubicBezTo>
                  <a:pt x="10006" y="1749"/>
                  <a:pt x="9986" y="1817"/>
                  <a:pt x="9967" y="1885"/>
                </a:cubicBezTo>
                <a:cubicBezTo>
                  <a:pt x="9955" y="1924"/>
                  <a:pt x="9949" y="1952"/>
                  <a:pt x="9949" y="1967"/>
                </a:cubicBezTo>
                <a:cubicBezTo>
                  <a:pt x="9949" y="1983"/>
                  <a:pt x="9956" y="1991"/>
                  <a:pt x="9969" y="1991"/>
                </a:cubicBezTo>
                <a:cubicBezTo>
                  <a:pt x="9998" y="1991"/>
                  <a:pt x="10041" y="1916"/>
                  <a:pt x="10100" y="1768"/>
                </a:cubicBezTo>
                <a:cubicBezTo>
                  <a:pt x="10117" y="1775"/>
                  <a:pt x="10135" y="1783"/>
                  <a:pt x="10152" y="1790"/>
                </a:cubicBezTo>
                <a:cubicBezTo>
                  <a:pt x="10084" y="1974"/>
                  <a:pt x="10013" y="2091"/>
                  <a:pt x="9939" y="2141"/>
                </a:cubicBezTo>
                <a:cubicBezTo>
                  <a:pt x="9865" y="2191"/>
                  <a:pt x="9776" y="2216"/>
                  <a:pt x="9674" y="2216"/>
                </a:cubicBezTo>
                <a:cubicBezTo>
                  <a:pt x="9569" y="2216"/>
                  <a:pt x="9488" y="2193"/>
                  <a:pt x="9430" y="2148"/>
                </a:cubicBezTo>
                <a:cubicBezTo>
                  <a:pt x="9372" y="2102"/>
                  <a:pt x="9343" y="2038"/>
                  <a:pt x="9343" y="1957"/>
                </a:cubicBezTo>
                <a:cubicBezTo>
                  <a:pt x="9343" y="1911"/>
                  <a:pt x="9351" y="1860"/>
                  <a:pt x="9368" y="1805"/>
                </a:cubicBezTo>
                <a:cubicBezTo>
                  <a:pt x="9385" y="1746"/>
                  <a:pt x="9402" y="1686"/>
                  <a:pt x="9419" y="1627"/>
                </a:cubicBezTo>
                <a:cubicBezTo>
                  <a:pt x="9425" y="1607"/>
                  <a:pt x="9428" y="1588"/>
                  <a:pt x="9428" y="1571"/>
                </a:cubicBezTo>
                <a:cubicBezTo>
                  <a:pt x="9428" y="1507"/>
                  <a:pt x="9385" y="1475"/>
                  <a:pt x="9299" y="1475"/>
                </a:cubicBezTo>
                <a:cubicBezTo>
                  <a:pt x="9226" y="1719"/>
                  <a:pt x="9153" y="1963"/>
                  <a:pt x="9080" y="2207"/>
                </a:cubicBezTo>
                <a:cubicBezTo>
                  <a:pt x="8844" y="2207"/>
                  <a:pt x="8609" y="2207"/>
                  <a:pt x="8373" y="2207"/>
                </a:cubicBezTo>
                <a:cubicBezTo>
                  <a:pt x="8582" y="1513"/>
                  <a:pt x="8791" y="819"/>
                  <a:pt x="8999" y="125"/>
                </a:cubicBezTo>
                <a:cubicBezTo>
                  <a:pt x="8935" y="125"/>
                  <a:pt x="8871" y="125"/>
                  <a:pt x="8808" y="125"/>
                </a:cubicBezTo>
                <a:cubicBezTo>
                  <a:pt x="8813" y="103"/>
                  <a:pt x="8819" y="81"/>
                  <a:pt x="8825" y="59"/>
                </a:cubicBezTo>
                <a:cubicBezTo>
                  <a:pt x="8832" y="59"/>
                  <a:pt x="8839" y="59"/>
                  <a:pt x="8846" y="59"/>
                </a:cubicBezTo>
                <a:cubicBezTo>
                  <a:pt x="8950" y="59"/>
                  <a:pt x="9100" y="54"/>
                  <a:pt x="9296" y="44"/>
                </a:cubicBezTo>
                <a:cubicBezTo>
                  <a:pt x="9491" y="34"/>
                  <a:pt x="9638" y="19"/>
                  <a:pt x="9737" y="0"/>
                </a:cubicBezTo>
                <a:close/>
                <a:moveTo>
                  <a:pt x="3462" y="0"/>
                </a:moveTo>
                <a:cubicBezTo>
                  <a:pt x="3339" y="412"/>
                  <a:pt x="3215" y="824"/>
                  <a:pt x="3091" y="1236"/>
                </a:cubicBezTo>
                <a:cubicBezTo>
                  <a:pt x="3311" y="963"/>
                  <a:pt x="3529" y="826"/>
                  <a:pt x="3743" y="826"/>
                </a:cubicBezTo>
                <a:cubicBezTo>
                  <a:pt x="3830" y="826"/>
                  <a:pt x="3903" y="852"/>
                  <a:pt x="3963" y="902"/>
                </a:cubicBezTo>
                <a:cubicBezTo>
                  <a:pt x="4022" y="953"/>
                  <a:pt x="4052" y="1015"/>
                  <a:pt x="4052" y="1089"/>
                </a:cubicBezTo>
                <a:cubicBezTo>
                  <a:pt x="4052" y="1146"/>
                  <a:pt x="4035" y="1235"/>
                  <a:pt x="3999" y="1355"/>
                </a:cubicBezTo>
                <a:cubicBezTo>
                  <a:pt x="3953" y="1511"/>
                  <a:pt x="3907" y="1666"/>
                  <a:pt x="3860" y="1822"/>
                </a:cubicBezTo>
                <a:cubicBezTo>
                  <a:pt x="3849" y="1862"/>
                  <a:pt x="3843" y="1895"/>
                  <a:pt x="3843" y="1922"/>
                </a:cubicBezTo>
                <a:cubicBezTo>
                  <a:pt x="3843" y="1931"/>
                  <a:pt x="3847" y="1940"/>
                  <a:pt x="3854" y="1948"/>
                </a:cubicBezTo>
                <a:cubicBezTo>
                  <a:pt x="3861" y="1956"/>
                  <a:pt x="3869" y="1960"/>
                  <a:pt x="3878" y="1960"/>
                </a:cubicBezTo>
                <a:cubicBezTo>
                  <a:pt x="3905" y="1960"/>
                  <a:pt x="3938" y="1932"/>
                  <a:pt x="3977" y="1874"/>
                </a:cubicBezTo>
                <a:cubicBezTo>
                  <a:pt x="4015" y="1817"/>
                  <a:pt x="4049" y="1743"/>
                  <a:pt x="4077" y="1653"/>
                </a:cubicBezTo>
                <a:cubicBezTo>
                  <a:pt x="4099" y="1661"/>
                  <a:pt x="4121" y="1670"/>
                  <a:pt x="4143" y="1678"/>
                </a:cubicBezTo>
                <a:cubicBezTo>
                  <a:pt x="4034" y="2037"/>
                  <a:pt x="3829" y="2216"/>
                  <a:pt x="3528" y="2216"/>
                </a:cubicBezTo>
                <a:cubicBezTo>
                  <a:pt x="3416" y="2216"/>
                  <a:pt x="3326" y="2191"/>
                  <a:pt x="3258" y="2139"/>
                </a:cubicBezTo>
                <a:cubicBezTo>
                  <a:pt x="3190" y="2087"/>
                  <a:pt x="3157" y="2019"/>
                  <a:pt x="3157" y="1935"/>
                </a:cubicBezTo>
                <a:cubicBezTo>
                  <a:pt x="3157" y="1890"/>
                  <a:pt x="3164" y="1841"/>
                  <a:pt x="3179" y="1787"/>
                </a:cubicBezTo>
                <a:cubicBezTo>
                  <a:pt x="3228" y="1618"/>
                  <a:pt x="3278" y="1450"/>
                  <a:pt x="3328" y="1281"/>
                </a:cubicBezTo>
                <a:cubicBezTo>
                  <a:pt x="3341" y="1235"/>
                  <a:pt x="3348" y="1201"/>
                  <a:pt x="3348" y="1180"/>
                </a:cubicBezTo>
                <a:cubicBezTo>
                  <a:pt x="3348" y="1153"/>
                  <a:pt x="3337" y="1140"/>
                  <a:pt x="3315" y="1140"/>
                </a:cubicBezTo>
                <a:cubicBezTo>
                  <a:pt x="3303" y="1140"/>
                  <a:pt x="3289" y="1145"/>
                  <a:pt x="3271" y="1155"/>
                </a:cubicBezTo>
                <a:cubicBezTo>
                  <a:pt x="3254" y="1165"/>
                  <a:pt x="3235" y="1180"/>
                  <a:pt x="3214" y="1199"/>
                </a:cubicBezTo>
                <a:cubicBezTo>
                  <a:pt x="3193" y="1219"/>
                  <a:pt x="3170" y="1243"/>
                  <a:pt x="3144" y="1271"/>
                </a:cubicBezTo>
                <a:cubicBezTo>
                  <a:pt x="3118" y="1300"/>
                  <a:pt x="3089" y="1334"/>
                  <a:pt x="3056" y="1374"/>
                </a:cubicBezTo>
                <a:cubicBezTo>
                  <a:pt x="3053" y="1378"/>
                  <a:pt x="3025" y="1469"/>
                  <a:pt x="2972" y="1646"/>
                </a:cubicBezTo>
                <a:cubicBezTo>
                  <a:pt x="2917" y="1833"/>
                  <a:pt x="2861" y="2020"/>
                  <a:pt x="2805" y="2207"/>
                </a:cubicBezTo>
                <a:cubicBezTo>
                  <a:pt x="2570" y="2207"/>
                  <a:pt x="2334" y="2207"/>
                  <a:pt x="2099" y="2207"/>
                </a:cubicBezTo>
                <a:cubicBezTo>
                  <a:pt x="2307" y="1513"/>
                  <a:pt x="2516" y="819"/>
                  <a:pt x="2725" y="125"/>
                </a:cubicBezTo>
                <a:cubicBezTo>
                  <a:pt x="2661" y="125"/>
                  <a:pt x="2597" y="125"/>
                  <a:pt x="2533" y="125"/>
                </a:cubicBezTo>
                <a:cubicBezTo>
                  <a:pt x="2539" y="103"/>
                  <a:pt x="2545" y="81"/>
                  <a:pt x="2551" y="59"/>
                </a:cubicBezTo>
                <a:cubicBezTo>
                  <a:pt x="2558" y="59"/>
                  <a:pt x="2564" y="59"/>
                  <a:pt x="2571" y="59"/>
                </a:cubicBezTo>
                <a:cubicBezTo>
                  <a:pt x="2676" y="59"/>
                  <a:pt x="2826" y="54"/>
                  <a:pt x="3021" y="44"/>
                </a:cubicBezTo>
                <a:cubicBezTo>
                  <a:pt x="3217" y="34"/>
                  <a:pt x="3364" y="19"/>
                  <a:pt x="346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79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8a0000"/>
                </a:solidFill>
                <a:latin typeface="Arial Black"/>
              </a:rPr>
              <a:t>感谢您</a:t>
            </a:r>
            <a:br>
              <a:rPr sz="4400"/>
            </a:br>
            <a:r>
              <a:rPr b="1" i="1" lang="zh-CN" sz="4400" spc="-1" strike="noStrike">
                <a:solidFill>
                  <a:srgbClr val="8a0000"/>
                </a:solidFill>
                <a:latin typeface="Arial Black"/>
              </a:rPr>
              <a:t>对互助保障工作的大力支持！</a:t>
            </a:r>
            <a:endParaRPr b="1" lang="en-US" sz="4400" spc="-1" strike="noStrike">
              <a:solidFill>
                <a:srgbClr val="8a0000"/>
              </a:solidFill>
              <a:latin typeface="Arial Black"/>
            </a:endParaRPr>
          </a:p>
        </p:txBody>
      </p:sp>
      <p:sp>
        <p:nvSpPr>
          <p:cNvPr id="664" name="文本框 1"/>
          <p:cNvSpPr/>
          <p:nvPr/>
        </p:nvSpPr>
        <p:spPr>
          <a:xfrm>
            <a:off x="3803760" y="6286680"/>
            <a:ext cx="53402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a0000"/>
                </a:solidFill>
                <a:latin typeface="黑体"/>
                <a:ea typeface="黑体"/>
              </a:rPr>
              <a:t>公益部联系电话：</a:t>
            </a:r>
            <a:r>
              <a:rPr b="0" lang="en-US" sz="1600" spc="-1" strike="noStrike">
                <a:solidFill>
                  <a:srgbClr val="8a0000"/>
                </a:solidFill>
                <a:latin typeface="黑体"/>
                <a:ea typeface="黑体"/>
              </a:rPr>
              <a:t>8357.0059   6768.2932   8357.0108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665" name="图片 2" descr=""/>
          <p:cNvPicPr/>
          <p:nvPr/>
        </p:nvPicPr>
        <p:blipFill>
          <a:blip r:embed="rId1"/>
          <a:stretch/>
        </p:blipFill>
        <p:spPr>
          <a:xfrm>
            <a:off x="0" y="34920"/>
            <a:ext cx="245736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矩形 6"/>
          <p:cNvSpPr/>
          <p:nvPr/>
        </p:nvSpPr>
        <p:spPr>
          <a:xfrm>
            <a:off x="264960" y="15840"/>
            <a:ext cx="3659400" cy="892080"/>
          </a:xfrm>
          <a:prstGeom prst="pie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幼圆"/>
              </a:rPr>
              <a:t>核实对象与内容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566" name="图示 7" descr=""/>
          <p:cNvPicPr/>
          <p:nvPr/>
        </p:nvPicPr>
        <p:blipFill>
          <a:blip r:embed="rId1"/>
          <a:stretch/>
        </p:blipFill>
        <p:spPr>
          <a:xfrm>
            <a:off x="101520" y="1477800"/>
            <a:ext cx="8940960" cy="46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6"/>
          <p:cNvSpPr/>
          <p:nvPr/>
        </p:nvSpPr>
        <p:spPr>
          <a:xfrm>
            <a:off x="264960" y="15840"/>
            <a:ext cx="3730680" cy="820800"/>
          </a:xfrm>
          <a:prstGeom prst="pie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幼圆"/>
              </a:rPr>
              <a:t>对象分类及要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568" name="图示 12" descr=""/>
          <p:cNvPicPr/>
          <p:nvPr/>
        </p:nvPicPr>
        <p:blipFill>
          <a:blip r:embed="rId1"/>
          <a:stretch/>
        </p:blipFill>
        <p:spPr>
          <a:xfrm>
            <a:off x="-6480" y="901800"/>
            <a:ext cx="8948880" cy="5702040"/>
          </a:xfrm>
          <a:prstGeom prst="rect">
            <a:avLst/>
          </a:prstGeom>
          <a:ln w="0">
            <a:noFill/>
          </a:ln>
        </p:spPr>
      </p:pic>
      <p:sp>
        <p:nvSpPr>
          <p:cNvPr id="569" name="动作按钮: 前进或下一项 4"/>
          <p:cNvSpPr/>
          <p:nvPr/>
        </p:nvSpPr>
        <p:spPr>
          <a:xfrm>
            <a:off x="4572000" y="630864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1333d3"/>
          </a:solidFill>
          <a:ln w="1260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6"/>
          <p:cNvSpPr/>
          <p:nvPr/>
        </p:nvSpPr>
        <p:spPr>
          <a:xfrm>
            <a:off x="179280" y="115920"/>
            <a:ext cx="3946680" cy="749160"/>
          </a:xfrm>
          <a:prstGeom prst="pie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幼圆"/>
              </a:rPr>
              <a:t>对象分类及工作流程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71" name="直接连接符 5"/>
          <p:cNvSpPr/>
          <p:nvPr/>
        </p:nvSpPr>
        <p:spPr>
          <a:xfrm>
            <a:off x="2771640" y="4508640"/>
            <a:ext cx="0" cy="1296720"/>
          </a:xfrm>
          <a:prstGeom prst="line">
            <a:avLst/>
          </a:prstGeom>
          <a:ln w="6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72" name="直接连接符 7"/>
          <p:cNvSpPr/>
          <p:nvPr/>
        </p:nvSpPr>
        <p:spPr>
          <a:xfrm>
            <a:off x="2924280" y="4660920"/>
            <a:ext cx="1792080" cy="0"/>
          </a:xfrm>
          <a:prstGeom prst="line">
            <a:avLst/>
          </a:prstGeom>
          <a:ln w="6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73" name="矩形: 圆角 11"/>
          <p:cNvSpPr/>
          <p:nvPr/>
        </p:nvSpPr>
        <p:spPr>
          <a:xfrm>
            <a:off x="0" y="2155680"/>
            <a:ext cx="1019160" cy="2546640"/>
          </a:xfrm>
          <a:custGeom>
            <a:avLst/>
            <a:gdLst>
              <a:gd name="textAreaLeft" fmla="*/ 29520 w 1019160"/>
              <a:gd name="textAreaRight" fmla="*/ 989640 w 1019160"/>
              <a:gd name="textAreaTop" fmla="*/ 29520 h 2546640"/>
              <a:gd name="textAreaBottom" fmla="*/ 2517120 h 2546640"/>
            </a:gdLst>
            <a:ahLst/>
            <a:rect l="textAreaLeft" t="textAreaTop" r="textAreaRight" b="textAreaBottom"/>
            <a:pathLst>
              <a:path w="21600" h="53962">
                <a:moveTo>
                  <a:pt x="2160" y="0"/>
                </a:moveTo>
                <a:arcTo wR="2160" hR="2160" stAng="16200000" swAng="-5400000"/>
                <a:lnTo>
                  <a:pt x="0" y="51802"/>
                </a:lnTo>
                <a:arcTo wR="2160" hR="2160" stAng="10800000" swAng="-5400000"/>
                <a:lnTo>
                  <a:pt x="19440" y="5396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grpSp>
        <p:nvGrpSpPr>
          <p:cNvPr id="574" name="组合 13"/>
          <p:cNvGrpSpPr/>
          <p:nvPr/>
        </p:nvGrpSpPr>
        <p:grpSpPr>
          <a:xfrm>
            <a:off x="0" y="2637000"/>
            <a:ext cx="1265400" cy="1698480"/>
            <a:chOff x="0" y="2637000"/>
            <a:chExt cx="1265400" cy="1698480"/>
          </a:xfrm>
        </p:grpSpPr>
        <p:sp>
          <p:nvSpPr>
            <p:cNvPr id="575" name="矩形: 圆角 14"/>
            <p:cNvSpPr/>
            <p:nvPr/>
          </p:nvSpPr>
          <p:spPr>
            <a:xfrm>
              <a:off x="0" y="2637000"/>
              <a:ext cx="1265400" cy="1698480"/>
            </a:xfrm>
            <a:custGeom>
              <a:avLst/>
              <a:gdLst>
                <a:gd name="textAreaLeft" fmla="*/ 36720 w 1265400"/>
                <a:gd name="textAreaRight" fmla="*/ 1228680 w 1265400"/>
                <a:gd name="textAreaTop" fmla="*/ 36720 h 1698480"/>
                <a:gd name="textAreaBottom" fmla="*/ 1661760 h 1698480"/>
              </a:gdLst>
              <a:ahLst/>
              <a:rect l="textAreaLeft" t="textAreaTop" r="textAreaRight" b="textAreaBottom"/>
              <a:pathLst>
                <a:path w="21600" h="28990">
                  <a:moveTo>
                    <a:pt x="2160" y="0"/>
                  </a:moveTo>
                  <a:arcTo wR="2160" hR="2160" stAng="16200000" swAng="-5400000"/>
                  <a:lnTo>
                    <a:pt x="0" y="26830"/>
                  </a:lnTo>
                  <a:arcTo wR="2160" hR="2160" stAng="10800000" swAng="-5400000"/>
                  <a:lnTo>
                    <a:pt x="19440" y="2899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  <p:sp>
          <p:nvSpPr>
            <p:cNvPr id="576" name="矩形: 圆角 4"/>
            <p:cNvSpPr/>
            <p:nvPr/>
          </p:nvSpPr>
          <p:spPr>
            <a:xfrm>
              <a:off x="36360" y="2673360"/>
              <a:ext cx="1192680" cy="16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幼圆"/>
                </a:rPr>
                <a:t>互助金</a:t>
              </a: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给付</a:t>
              </a: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幼圆"/>
                </a:rPr>
                <a:t>的会员</a:t>
              </a: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</p:grpSp>
      <p:pic>
        <p:nvPicPr>
          <p:cNvPr id="577" name="图示 18" descr=""/>
          <p:cNvPicPr/>
          <p:nvPr/>
        </p:nvPicPr>
        <p:blipFill>
          <a:blip r:embed="rId1"/>
          <a:stretch/>
        </p:blipFill>
        <p:spPr>
          <a:xfrm>
            <a:off x="1600200" y="949320"/>
            <a:ext cx="7297560" cy="55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直接连接符 6"/>
          <p:cNvSpPr/>
          <p:nvPr/>
        </p:nvSpPr>
        <p:spPr>
          <a:xfrm>
            <a:off x="2411280" y="1052640"/>
            <a:ext cx="0" cy="360360"/>
          </a:xfrm>
          <a:prstGeom prst="line">
            <a:avLst/>
          </a:prstGeom>
          <a:ln w="3816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79" name="直接连接符 7"/>
          <p:cNvSpPr/>
          <p:nvPr/>
        </p:nvSpPr>
        <p:spPr>
          <a:xfrm flipV="1">
            <a:off x="2419200" y="1052640"/>
            <a:ext cx="1073160" cy="7920"/>
          </a:xfrm>
          <a:prstGeom prst="line">
            <a:avLst/>
          </a:prstGeom>
          <a:ln w="3816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80" name="直接连接符 8"/>
          <p:cNvSpPr/>
          <p:nvPr/>
        </p:nvSpPr>
        <p:spPr>
          <a:xfrm>
            <a:off x="2411280" y="1413000"/>
            <a:ext cx="1081080" cy="0"/>
          </a:xfrm>
          <a:prstGeom prst="line">
            <a:avLst/>
          </a:prstGeom>
          <a:ln w="3816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81" name="直接连接符 9"/>
          <p:cNvSpPr/>
          <p:nvPr/>
        </p:nvSpPr>
        <p:spPr>
          <a:xfrm>
            <a:off x="3481560" y="1077840"/>
            <a:ext cx="10800" cy="335160"/>
          </a:xfrm>
          <a:prstGeom prst="line">
            <a:avLst/>
          </a:prstGeom>
          <a:ln w="3816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82" name="直接连接符 10"/>
          <p:cNvSpPr/>
          <p:nvPr/>
        </p:nvSpPr>
        <p:spPr>
          <a:xfrm flipV="1">
            <a:off x="2951280" y="3782880"/>
            <a:ext cx="1477800" cy="14400"/>
          </a:xfrm>
          <a:prstGeom prst="line">
            <a:avLst/>
          </a:prstGeom>
          <a:ln w="3816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83" name="直接连接符 11"/>
          <p:cNvSpPr/>
          <p:nvPr/>
        </p:nvSpPr>
        <p:spPr>
          <a:xfrm flipV="1">
            <a:off x="2951280" y="3421080"/>
            <a:ext cx="1477800" cy="14400"/>
          </a:xfrm>
          <a:prstGeom prst="line">
            <a:avLst/>
          </a:prstGeom>
          <a:ln w="3816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84" name="直接连接符 12"/>
          <p:cNvSpPr/>
          <p:nvPr/>
        </p:nvSpPr>
        <p:spPr>
          <a:xfrm>
            <a:off x="2955960" y="3435480"/>
            <a:ext cx="0" cy="360360"/>
          </a:xfrm>
          <a:prstGeom prst="line">
            <a:avLst/>
          </a:prstGeom>
          <a:ln w="3816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85" name="直接连接符 13"/>
          <p:cNvSpPr/>
          <p:nvPr/>
        </p:nvSpPr>
        <p:spPr>
          <a:xfrm flipH="1">
            <a:off x="4427640" y="3421080"/>
            <a:ext cx="1440" cy="360360"/>
          </a:xfrm>
          <a:prstGeom prst="line">
            <a:avLst/>
          </a:prstGeom>
          <a:ln w="3816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pic>
        <p:nvPicPr>
          <p:cNvPr id="586" name="图片 14" descr=""/>
          <p:cNvPicPr/>
          <p:nvPr/>
        </p:nvPicPr>
        <p:blipFill>
          <a:blip r:embed="rId1"/>
          <a:stretch/>
        </p:blipFill>
        <p:spPr>
          <a:xfrm>
            <a:off x="-12600" y="581040"/>
            <a:ext cx="9169200" cy="5695920"/>
          </a:xfrm>
          <a:prstGeom prst="rect">
            <a:avLst/>
          </a:prstGeom>
          <a:ln w="0">
            <a:noFill/>
          </a:ln>
        </p:spPr>
      </p:pic>
      <p:sp>
        <p:nvSpPr>
          <p:cNvPr id="587" name="圆角矩形标注 4"/>
          <p:cNvSpPr/>
          <p:nvPr/>
        </p:nvSpPr>
        <p:spPr>
          <a:xfrm>
            <a:off x="1035000" y="2025720"/>
            <a:ext cx="2054160" cy="361800"/>
          </a:xfrm>
          <a:prstGeom prst="wedgeRectCallout">
            <a:avLst>
              <a:gd name="adj1" fmla="val 68148"/>
              <a:gd name="adj2" fmla="val -217189"/>
            </a:avLst>
          </a:prstGeom>
          <a:solidFill>
            <a:srgbClr val="ffffff"/>
          </a:solidFill>
          <a:ln w="1908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94b"/>
                </a:solidFill>
                <a:latin typeface="华文中宋"/>
                <a:ea typeface="华文中宋"/>
              </a:rPr>
              <a:t>1.</a:t>
            </a:r>
            <a:r>
              <a:rPr b="0" lang="zh-CN" sz="1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点击京卡管理菜单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88" name="圆角矩形标注 4"/>
          <p:cNvSpPr/>
          <p:nvPr/>
        </p:nvSpPr>
        <p:spPr>
          <a:xfrm>
            <a:off x="4838760" y="3094200"/>
            <a:ext cx="2301840" cy="452160"/>
          </a:xfrm>
          <a:prstGeom prst="wedgeRectCallout">
            <a:avLst>
              <a:gd name="adj1" fmla="val -55990"/>
              <a:gd name="adj2" fmla="val -212689"/>
            </a:avLst>
          </a:prstGeom>
          <a:solidFill>
            <a:srgbClr val="ffffff"/>
          </a:solidFill>
          <a:ln w="19080">
            <a:solidFill>
              <a:srgbClr val="46494b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94b"/>
                </a:solidFill>
                <a:latin typeface="华文中宋"/>
                <a:ea typeface="华文中宋"/>
              </a:rPr>
              <a:t>2</a:t>
            </a:r>
            <a:r>
              <a:rPr b="0" lang="en-US" sz="2400" spc="-1" strike="noStrike">
                <a:solidFill>
                  <a:srgbClr val="46494b"/>
                </a:solidFill>
                <a:latin typeface="华文中宋"/>
                <a:ea typeface="华文中宋"/>
              </a:rPr>
              <a:t>.</a:t>
            </a:r>
            <a:r>
              <a:rPr b="0" lang="zh-CN" sz="1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点击已理赔核查管理</a:t>
            </a:r>
            <a:endParaRPr b="0" lang="en-US" sz="1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4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590" name="矩形 17"/>
          <p:cNvSpPr/>
          <p:nvPr/>
        </p:nvSpPr>
        <p:spPr>
          <a:xfrm>
            <a:off x="4068720" y="2233440"/>
            <a:ext cx="1087560" cy="5288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4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56167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"/>
          <p:cNvPicPr/>
          <p:nvPr/>
        </p:nvPicPr>
        <p:blipFill>
          <a:blip r:embed="rId2"/>
          <a:stretch/>
        </p:blipFill>
        <p:spPr>
          <a:xfrm>
            <a:off x="0" y="384120"/>
            <a:ext cx="9144000" cy="5083200"/>
          </a:xfrm>
          <a:prstGeom prst="rect">
            <a:avLst/>
          </a:prstGeom>
          <a:ln w="9360">
            <a:solidFill>
              <a:srgbClr val="3d3f41"/>
            </a:solidFill>
            <a:miter/>
          </a:ln>
        </p:spPr>
      </p:pic>
      <p:sp>
        <p:nvSpPr>
          <p:cNvPr id="593" name="矩形 17"/>
          <p:cNvSpPr/>
          <p:nvPr/>
        </p:nvSpPr>
        <p:spPr>
          <a:xfrm>
            <a:off x="7742160" y="1619280"/>
            <a:ext cx="1317600" cy="38480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6"/>
          <p:cNvSpPr/>
          <p:nvPr/>
        </p:nvSpPr>
        <p:spPr>
          <a:xfrm>
            <a:off x="324000" y="2602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核实成功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联系到本人，并说明二次报销情况，本人已知晓。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979280" y="2133360"/>
            <a:ext cx="1857600" cy="739800"/>
            <a:chOff x="1979280" y="2133360"/>
            <a:chExt cx="1857600" cy="739800"/>
          </a:xfrm>
        </p:grpSpPr>
        <p:sp>
          <p:nvSpPr>
            <p:cNvPr id="596" name="MH_Other_1"/>
            <p:cNvSpPr/>
            <p:nvPr/>
          </p:nvSpPr>
          <p:spPr>
            <a:xfrm flipV="1">
              <a:off x="1979640" y="2133360"/>
              <a:ext cx="1857240" cy="739800"/>
            </a:xfrm>
            <a:prstGeom prst="line">
              <a:avLst/>
            </a:prstGeom>
            <a:ln cap="rnd" w="38160">
              <a:solidFill>
                <a:srgbClr val="bce2d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 rot="10800000">
              <a:off x="1979280" y="2133360"/>
              <a:ext cx="1857240" cy="73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979640" y="3428640"/>
            <a:ext cx="2354400" cy="360"/>
            <a:chOff x="1979640" y="3428640"/>
            <a:chExt cx="2354400" cy="360"/>
          </a:xfrm>
        </p:grpSpPr>
        <p:sp>
          <p:nvSpPr>
            <p:cNvPr id="599" name="MH_Other_2"/>
            <p:cNvSpPr/>
            <p:nvPr/>
          </p:nvSpPr>
          <p:spPr>
            <a:xfrm>
              <a:off x="1979640" y="3429000"/>
              <a:ext cx="2354400" cy="0"/>
            </a:xfrm>
            <a:prstGeom prst="line">
              <a:avLst/>
            </a:prstGeom>
            <a:ln cap="rnd" w="38160">
              <a:solidFill>
                <a:srgbClr val="bce2d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 rot="10800000">
              <a:off x="1979640" y="3428640"/>
              <a:ext cx="235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124000" y="4005360"/>
            <a:ext cx="1857600" cy="707760"/>
            <a:chOff x="2124000" y="4005360"/>
            <a:chExt cx="1857600" cy="707760"/>
          </a:xfrm>
        </p:grpSpPr>
        <p:sp>
          <p:nvSpPr>
            <p:cNvPr id="602" name="MH_Other_3"/>
            <p:cNvSpPr/>
            <p:nvPr/>
          </p:nvSpPr>
          <p:spPr>
            <a:xfrm>
              <a:off x="2124000" y="4005360"/>
              <a:ext cx="1857600" cy="707760"/>
            </a:xfrm>
            <a:prstGeom prst="line">
              <a:avLst/>
            </a:prstGeom>
            <a:ln cap="rnd" w="38160">
              <a:solidFill>
                <a:srgbClr val="bce2d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2124000" y="4005360"/>
              <a:ext cx="1857600" cy="70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94b4d"/>
                </a:solidFill>
                <a:latin typeface="Arial"/>
              </a:endParaRPr>
            </a:p>
          </p:txBody>
        </p:sp>
      </p:grpSp>
      <p:sp>
        <p:nvSpPr>
          <p:cNvPr id="604" name="MH_SubTitle_1"/>
          <p:cNvSpPr/>
          <p:nvPr/>
        </p:nvSpPr>
        <p:spPr>
          <a:xfrm>
            <a:off x="4427640" y="1916280"/>
            <a:ext cx="3633840" cy="64584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-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核实成功、领过卡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05" name="MH_SubTitle_2"/>
          <p:cNvSpPr/>
          <p:nvPr/>
        </p:nvSpPr>
        <p:spPr>
          <a:xfrm>
            <a:off x="4427640" y="3068640"/>
            <a:ext cx="3633840" cy="64620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-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核实成功、未领卡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06" name="MH_SubTitle_3"/>
          <p:cNvSpPr/>
          <p:nvPr/>
        </p:nvSpPr>
        <p:spPr>
          <a:xfrm>
            <a:off x="4500720" y="4437000"/>
            <a:ext cx="3633480" cy="64764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-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核实成功、不清楚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07" name="MH_Other_4"/>
          <p:cNvSpPr/>
          <p:nvPr/>
        </p:nvSpPr>
        <p:spPr>
          <a:xfrm>
            <a:off x="108000" y="2492280"/>
            <a:ext cx="1903320" cy="1903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608" name="MH_Title_1"/>
          <p:cNvSpPr/>
          <p:nvPr/>
        </p:nvSpPr>
        <p:spPr>
          <a:xfrm>
            <a:off x="250920" y="2708280"/>
            <a:ext cx="1479600" cy="1479600"/>
          </a:xfrm>
          <a:prstGeom prst="ellipse">
            <a:avLst/>
          </a:prstGeom>
          <a:solidFill>
            <a:srgbClr val="af2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实成功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子类</a:t>
            </a:r>
            <a:endParaRPr b="0" lang="en-US" sz="20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8:54:09Z</dcterms:created>
  <dc:creator>Windows 用户</dc:creator>
  <dc:description/>
  <dc:language>en-US</dc:language>
  <cp:lastModifiedBy>xupeng</cp:lastModifiedBy>
  <dcterms:modified xsi:type="dcterms:W3CDTF">2018-05-30T02:57:07Z</dcterms:modified>
  <cp:revision>7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